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12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14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D350-FEB5-49F8-9A6A-0D3488B8A3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ssources sur le thème : c’est la suite du diapo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xemples d’activités : shunt les res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es exercices en math : fichier pdf avec exo sur la tempé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travail en hist-géo a porté sur : mini période glaciaire et sur les différents climats en particulier en Afriq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projet lancé en physique à la suite du cycle de l’ea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ravail demandé : réaliser à la maison la recherche «  météo et vie quotidienne 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tte première étape leur a plu, ils ont réalisé des travaux soignés et intéress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élèves vont marquer d’un 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ogo M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tout ce qui concerne la météo das les différentes disciplines, tout seul ou aidé par leur professe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temps a manqué pour la réali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05B-423C-4984-8AF3-CD6F2C39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5332-4BAA-4496-932E-7A7D2F6A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A996-0A80-46D3-A72C-888F093A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25E7-68EC-4DCA-AB19-43628451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A832-FA6D-4E89-97B2-66F7B91A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9384-B9C8-485F-8EFB-B7AC0852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7A12-7D5F-421E-B41B-A067C7F7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944B-9D35-49D8-A7E6-807B1510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B41E-82D8-4E35-9399-78D11B6C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6F06-1546-48CC-A5ED-27610B33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46CD-78AB-4EDF-B519-609986DA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B8E5-7F83-464A-81AB-1B9A91BC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5475-7BB4-4CE2-86CA-0C0BBE2F8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hyperlink" Target="file:///../Local%20Settings/Temporary%20Internet%20Files/Content.IE5/2781GNA9/La%20pluviom&#233;trie%20activit&#233;s%20(lien).doc" TargetMode="External"/><Relationship Id="rId4" Type="http://schemas.openxmlformats.org/officeDocument/2006/relationships/hyperlink" Target="file:///../Local%20Settings/Temporary%20Internet%20Files/Content.IE5/2781GNA9/Texte%20historique%20sur%20l&apos;eau%20dans%20l&apos;atmosph&#232;re%20(lien).doc" TargetMode="External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orary%20Internet%20Files/Content.IE5/2781GNA9/Mesure%20de%20la%20vitesse%20du%20vent%20(lien).doc" TargetMode="External"/><Relationship Id="rId2" Type="http://schemas.openxmlformats.org/officeDocument/2006/relationships/hyperlink" Target="file:///../Local%20Settings/Temporary%20Internet%20Files/Content.IE5/2781GNA9/Pression%20atmosph&#233;rique%20et%20vent%20(lien).doc" TargetMode="External"/><Relationship Id="rId3" Type="http://schemas.openxmlformats.org/officeDocument/2006/relationships/hyperlink" Target="file:///../Local%20Settings/Temporary%20Internet%20Files/Content.IE5/2781GNA9/Le%20vent%20activit&#233;s%20(lien).doc" TargetMode="External"/><Relationship Id="rId4" Type="http://schemas.openxmlformats.org/officeDocument/2006/relationships/hyperlink" Target="file:///../Local%20Settings/Temporary%20Internet%20Files/Content.IE5/2781GNA9/Texte%20historique%20sur%20le%20vent%20(lien).doc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EOROLOGIE ET CLIMATOLOGIE</a:t>
            </a:r>
            <a:br>
              <a:rPr sz="5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920" y="1341360"/>
            <a:ext cx="7777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a800"/>
                </a:solidFill>
                <a:latin typeface="Arial"/>
              </a:rPr>
              <a:t>Un exemple de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a800"/>
                </a:solidFill>
                <a:latin typeface="Arial"/>
              </a:rPr>
              <a:t>projet sur l’ann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a800"/>
                </a:solidFill>
                <a:latin typeface="Arial"/>
              </a:rPr>
              <a:t>sur les heures de c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a800"/>
                </a:solidFill>
                <a:latin typeface="Arial"/>
              </a:rPr>
              <a:t>entre PHYS, SVT, MATH, HIST-G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a800"/>
                </a:solidFill>
                <a:latin typeface="Arial"/>
              </a:rPr>
              <a:t>Des ressources sur le thè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a800"/>
                </a:solidFill>
                <a:latin typeface="Arial"/>
              </a:rPr>
              <a:t>Exemples d’activités ; copies d’élè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a800"/>
                </a:solidFill>
                <a:latin typeface="Arial"/>
              </a:rPr>
              <a:t>Des exercices en m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11120" y="4240080"/>
            <a:ext cx="61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is exemples de questionnements liés à un grand thème météorologiqu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0" y="662040"/>
            <a:ext cx="9372600" cy="6195240"/>
            <a:chOff x="0" y="662040"/>
            <a:chExt cx="9372600" cy="6195240"/>
          </a:xfrm>
        </p:grpSpPr>
        <p:sp>
          <p:nvSpPr>
            <p:cNvPr id="134" name=""/>
            <p:cNvSpPr/>
            <p:nvPr/>
          </p:nvSpPr>
          <p:spPr>
            <a:xfrm>
              <a:off x="6858000" y="1345680"/>
              <a:ext cx="2286000" cy="457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nneigement à la surface de la Terre et suivant les saisons </a:t>
              </a:r>
              <a:r>
                <a:rPr b="0" lang="en-US" sz="1100" spc="-1" strike="noStrike">
                  <a:solidFill>
                    <a:srgbClr val="008000"/>
                  </a:solidFill>
                  <a:latin typeface="Times New Roman"/>
                </a:rPr>
                <a:t>(Géo 6</a:t>
              </a:r>
              <a:r>
                <a:rPr b="0" lang="en-US" sz="1100" spc="-1" strike="noStrike" baseline="30000">
                  <a:solidFill>
                    <a:srgbClr val="008000"/>
                  </a:solidFill>
                  <a:latin typeface="Times New Roman"/>
                </a:rPr>
                <a:t>ème</a:t>
              </a:r>
              <a:r>
                <a:rPr b="0" lang="en-US" sz="11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58000" y="2033640"/>
              <a:ext cx="2514600" cy="5713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nneigement et activités économiques et sportives </a:t>
              </a:r>
              <a:r>
                <a:rPr b="0" lang="en-US" sz="1100" spc="-1" strike="noStrike">
                  <a:solidFill>
                    <a:srgbClr val="008000"/>
                  </a:solidFill>
                  <a:latin typeface="Times New Roman"/>
                </a:rPr>
                <a:t>(Géo 6</a:t>
              </a:r>
              <a:r>
                <a:rPr b="0" lang="en-US" sz="1100" spc="-1" strike="noStrike" baseline="30000">
                  <a:solidFill>
                    <a:srgbClr val="008000"/>
                  </a:solidFill>
                  <a:latin typeface="Times New Roman"/>
                </a:rPr>
                <a:t>ème</a:t>
              </a:r>
              <a:r>
                <a:rPr b="0" lang="en-US" sz="1100" spc="-1" strike="noStrike">
                  <a:solidFill>
                    <a:srgbClr val="008000"/>
                  </a:solidFill>
                  <a:latin typeface="Times New Roman"/>
                </a:rPr>
                <a:t>-5</a:t>
              </a:r>
              <a:r>
                <a:rPr b="0" lang="en-US" sz="1100" spc="-1" strike="noStrike" baseline="30000">
                  <a:solidFill>
                    <a:srgbClr val="008000"/>
                  </a:solidFill>
                  <a:latin typeface="Times New Roman"/>
                </a:rPr>
                <a:t>ème</a:t>
              </a:r>
              <a:r>
                <a:rPr b="0" lang="en-US" sz="1100" spc="-1" strike="noStrike">
                  <a:solidFill>
                    <a:srgbClr val="008000"/>
                  </a:solidFill>
                  <a:latin typeface="Times New Roman"/>
                </a:rPr>
                <a:t>-4</a:t>
              </a:r>
              <a:r>
                <a:rPr b="0" lang="en-US" sz="1100" spc="-1" strike="noStrike" baseline="30000">
                  <a:solidFill>
                    <a:srgbClr val="008000"/>
                  </a:solidFill>
                  <a:latin typeface="Times New Roman"/>
                </a:rPr>
                <a:t>ème</a:t>
              </a:r>
              <a:r>
                <a:rPr b="0" lang="en-US" sz="1100" spc="-1" strike="noStrike">
                  <a:solidFill>
                    <a:srgbClr val="008000"/>
                  </a:solidFill>
                  <a:latin typeface="Times New Roman"/>
                </a:rPr>
                <a:t>, EPS tous niveaux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72200" y="4434120"/>
              <a:ext cx="3085920" cy="342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Mesures de hauteurs de précipitations </a:t>
              </a:r>
              <a:r>
                <a:rPr b="0" lang="en-US" sz="1100" spc="-1" strike="noStrike">
                  <a:solidFill>
                    <a:srgbClr val="800000"/>
                  </a:solidFill>
                  <a:latin typeface="Times New Roman"/>
                </a:rPr>
                <a:t>(SP 5</a:t>
              </a:r>
              <a:r>
                <a:rPr b="0" lang="en-US" sz="1100" spc="-1" strike="noStrike" baseline="30000">
                  <a:solidFill>
                    <a:srgbClr val="800000"/>
                  </a:solidFill>
                  <a:latin typeface="Times New Roman"/>
                </a:rPr>
                <a:t>ème</a:t>
              </a:r>
              <a:r>
                <a:rPr b="0" lang="en-US" sz="1100" spc="-1" strike="noStrike">
                  <a:solidFill>
                    <a:srgbClr val="800000"/>
                  </a:solidFill>
                  <a:latin typeface="Times New Roman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28920" y="5348520"/>
              <a:ext cx="1942920" cy="457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Fonctionnement d’une centrale hydroélectrique </a:t>
              </a:r>
              <a:r>
                <a:rPr b="0" lang="en-US" sz="1100" spc="-1" strike="noStrike">
                  <a:solidFill>
                    <a:srgbClr val="800000"/>
                  </a:solidFill>
                  <a:latin typeface="Times New Roman"/>
                </a:rPr>
                <a:t>(SP 3</a:t>
              </a:r>
              <a:r>
                <a:rPr b="0" lang="en-US" sz="1100" spc="-1" strike="noStrike" baseline="30000">
                  <a:solidFill>
                    <a:srgbClr val="800000"/>
                  </a:solidFill>
                  <a:latin typeface="Times New Roman"/>
                </a:rPr>
                <a:t>ème</a:t>
              </a:r>
              <a:r>
                <a:rPr b="0" lang="en-US" sz="1100" spc="-1" strike="noStrike">
                  <a:solidFill>
                    <a:srgbClr val="800000"/>
                  </a:solidFill>
                  <a:latin typeface="Times New Roman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3862440"/>
              <a:ext cx="2628720" cy="459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Réalisation des changements d’état de la neige…..de l’eau </a:t>
              </a:r>
              <a:r>
                <a:rPr b="0" lang="en-US" sz="1100" spc="-1" strike="noStrike">
                  <a:solidFill>
                    <a:srgbClr val="800000"/>
                  </a:solidFill>
                  <a:latin typeface="Times New Roman"/>
                </a:rPr>
                <a:t>(SP 5</a:t>
              </a:r>
              <a:r>
                <a:rPr b="0" lang="en-US" sz="1100" spc="-1" strike="noStrike" baseline="30000">
                  <a:solidFill>
                    <a:srgbClr val="800000"/>
                  </a:solidFill>
                  <a:latin typeface="Times New Roman"/>
                </a:rPr>
                <a:t>ème</a:t>
              </a:r>
              <a:r>
                <a:rPr b="0" lang="en-US" sz="1100" spc="-1" strike="noStrike">
                  <a:solidFill>
                    <a:srgbClr val="800000"/>
                  </a:solidFill>
                  <a:latin typeface="Times New Roman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0" y="5348520"/>
              <a:ext cx="1847520" cy="457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tude des pluies acides et de leurs conséquences  </a:t>
              </a:r>
              <a:r>
                <a:rPr b="0" lang="en-US" sz="1100" spc="-1" strike="noStrike">
                  <a:solidFill>
                    <a:srgbClr val="800000"/>
                  </a:solidFill>
                  <a:latin typeface="Times New Roman"/>
                </a:rPr>
                <a:t>(SP 3</a:t>
              </a:r>
              <a:r>
                <a:rPr b="0" lang="en-US" sz="1100" spc="-1" strike="noStrike" baseline="30000">
                  <a:solidFill>
                    <a:srgbClr val="800000"/>
                  </a:solidFill>
                  <a:latin typeface="Times New Roman"/>
                </a:rPr>
                <a:t>ème</a:t>
              </a:r>
              <a:r>
                <a:rPr b="0" lang="en-US" sz="1100" spc="-1" strike="noStrike">
                  <a:solidFill>
                    <a:srgbClr val="800000"/>
                  </a:solidFill>
                  <a:latin typeface="Times New Roman"/>
                </a:rPr>
                <a:t>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71800" y="1690560"/>
              <a:ext cx="2474640" cy="295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A PLUVIOMETR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Qu’est-ce que la pluie, la neige 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ourquoi pleut-il ou neige-t-il 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Quelles en sont les conséquences 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66cc"/>
                  </a:solidFill>
                  <a:uFillTx/>
                  <a:latin typeface="Times New Roman"/>
                  <a:hlinkClick r:id="rId3"/>
                </a:rPr>
                <a:t>Activité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Textes histor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66cc"/>
                  </a:solidFill>
                  <a:uFillTx/>
                  <a:latin typeface="Times New Roman"/>
                  <a:hlinkClick r:id="rId4"/>
                </a:rPr>
                <a:t>- l’eau dans l’atmosphè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 l’hygromèt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15000" y="662040"/>
              <a:ext cx="2047680" cy="571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ycle de l’eau : évaporation, nuages, précipitations</a:t>
              </a:r>
              <a:r>
                <a:rPr b="0" lang="en-US" sz="1100" spc="-1" strike="noStrike">
                  <a:solidFill>
                    <a:srgbClr val="008000"/>
                  </a:solidFill>
                  <a:latin typeface="Times New Roman"/>
                </a:rPr>
                <a:t> (SP 5</a:t>
              </a:r>
              <a:r>
                <a:rPr b="0" lang="en-US" sz="1100" spc="-1" strike="noStrike" baseline="30000">
                  <a:solidFill>
                    <a:srgbClr val="008000"/>
                  </a:solidFill>
                  <a:latin typeface="Times New Roman"/>
                </a:rPr>
                <a:t>ème</a:t>
              </a:r>
              <a:r>
                <a:rPr b="0" lang="en-US" sz="11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86600" y="2719440"/>
              <a:ext cx="2286000" cy="457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Relation pluviométrie enneigement faune et flore </a:t>
              </a:r>
              <a:r>
                <a:rPr b="0" lang="en-US" sz="900" spc="-1" strike="noStrike">
                  <a:solidFill>
                    <a:srgbClr val="008000"/>
                  </a:solidFill>
                  <a:latin typeface="Times New Roman"/>
                </a:rPr>
                <a:t>(SVT 6-5</a:t>
              </a:r>
              <a:r>
                <a:rPr b="0" lang="en-US" sz="900" spc="-1" strike="noStrike" baseline="30000">
                  <a:solidFill>
                    <a:srgbClr val="008000"/>
                  </a:solidFill>
                  <a:latin typeface="Times New Roman"/>
                </a:rPr>
                <a:t>ème</a:t>
              </a:r>
              <a:r>
                <a:rPr b="0" lang="en-US" sz="9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r>
                <a:rPr b="0" lang="en-US" sz="1100" spc="-1" strike="noStrike">
                  <a:solidFill>
                    <a:srgbClr val="008000"/>
                  </a:solidFill>
                  <a:latin typeface="Times New Roman"/>
                </a:rPr>
                <a:t> en altitu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7600" y="784440"/>
              <a:ext cx="1901160" cy="448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au potable des populations , adaptation à l’effort </a:t>
              </a:r>
              <a:r>
                <a:rPr b="0" lang="en-US" sz="1100" spc="-1" strike="noStrike">
                  <a:solidFill>
                    <a:srgbClr val="333399"/>
                  </a:solidFill>
                  <a:latin typeface="Times New Roman"/>
                </a:rPr>
                <a:t>(Santé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4920" y="1643760"/>
              <a:ext cx="2050200" cy="618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luviométrie et pollution atmosphérique </a:t>
              </a:r>
              <a:r>
                <a:rPr b="0" lang="en-US" sz="1100" spc="-1" strike="noStrike">
                  <a:solidFill>
                    <a:srgbClr val="333399"/>
                  </a:solidFill>
                  <a:latin typeface="Times New Roman"/>
                </a:rPr>
                <a:t>(Environnement et développement durabl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8040" y="2626200"/>
              <a:ext cx="1901520" cy="43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luviométrie et production d’énergie électrique </a:t>
              </a:r>
              <a:r>
                <a:rPr b="0" lang="en-US" sz="1100" spc="-1" strike="noStrike">
                  <a:solidFill>
                    <a:srgbClr val="333399"/>
                  </a:solidFill>
                  <a:latin typeface="Times New Roman"/>
                </a:rPr>
                <a:t>(Energi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040" y="3362760"/>
              <a:ext cx="2047680" cy="613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tatistiques climatologiques </a:t>
              </a:r>
              <a:r>
                <a:rPr b="0" lang="en-US" sz="1100" spc="-1" strike="noStrike">
                  <a:solidFill>
                    <a:srgbClr val="333399"/>
                  </a:solidFill>
                  <a:latin typeface="Times New Roman"/>
                </a:rPr>
                <a:t>(Importance du mode pensée statistiqu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86600" y="3291120"/>
              <a:ext cx="2286000" cy="342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luviométrie et érosion </a:t>
              </a:r>
              <a:r>
                <a:rPr b="0" lang="en-US" sz="1100" spc="-1" strike="noStrike">
                  <a:solidFill>
                    <a:srgbClr val="008000"/>
                  </a:solidFill>
                  <a:latin typeface="Times New Roman"/>
                </a:rPr>
                <a:t>(SVT 5</a:t>
              </a:r>
              <a:r>
                <a:rPr b="0" lang="en-US" sz="1100" spc="-1" strike="noStrike" baseline="30000">
                  <a:solidFill>
                    <a:srgbClr val="008000"/>
                  </a:solidFill>
                  <a:latin typeface="Times New Roman"/>
                </a:rPr>
                <a:t>ème</a:t>
              </a:r>
              <a:r>
                <a:rPr b="0" lang="en-US" sz="11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20280" y="662040"/>
              <a:ext cx="1901160" cy="571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tats et changements d’état de la neige, de la grêle, du givre, .de l’eau. La glisse</a:t>
              </a:r>
              <a:r>
                <a:rPr b="0" lang="en-US" sz="1100" spc="-1" strike="noStrike">
                  <a:solidFill>
                    <a:srgbClr val="008000"/>
                  </a:solidFill>
                  <a:latin typeface="Times New Roman"/>
                </a:rPr>
                <a:t> (SP 5</a:t>
              </a:r>
              <a:r>
                <a:rPr b="0" lang="en-US" sz="1100" spc="-1" strike="noStrike" baseline="30000">
                  <a:solidFill>
                    <a:srgbClr val="008000"/>
                  </a:solidFill>
                  <a:latin typeface="Times New Roman"/>
                </a:rPr>
                <a:t>ème</a:t>
              </a:r>
              <a:r>
                <a:rPr b="0" lang="en-US" sz="11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8240" y="4205520"/>
              <a:ext cx="2047680" cy="571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nneigement et risques associés : avalanches inondations, température </a:t>
              </a:r>
              <a:r>
                <a:rPr b="0" lang="en-US" sz="1000" spc="-1" strike="noStrike">
                  <a:solidFill>
                    <a:srgbClr val="333399"/>
                  </a:solidFill>
                  <a:latin typeface="Times New Roman"/>
                </a:rPr>
                <a:t>(Sécurité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4120" y="5005440"/>
              <a:ext cx="2046600" cy="799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Utilisation des TICE : sites météo, tableur</a:t>
              </a:r>
              <a:r>
                <a:rPr b="0" lang="en-US" sz="11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logiciel (B2i), travaux des observatoires…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86320" y="4893120"/>
              <a:ext cx="2887200" cy="1028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onstruction de diagrammes de précipitations Lecture et exploitation de tableaux et d’histogrammes</a:t>
              </a:r>
              <a:r>
                <a:rPr b="0" lang="en-US" sz="11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(ou de diagrammes en bâtons) de précipitations (Maths 5</a:t>
              </a:r>
              <a:r>
                <a:rPr b="0" lang="en-US" sz="1100" spc="-1" strike="noStrike" baseline="30000">
                  <a:solidFill>
                    <a:srgbClr val="000000"/>
                  </a:solidFill>
                  <a:latin typeface="Times New Roman"/>
                </a:rPr>
                <a:t>ème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, 4</a:t>
              </a:r>
              <a:r>
                <a:rPr b="0" lang="en-US" sz="1100" spc="-1" strike="noStrike" baseline="30000">
                  <a:solidFill>
                    <a:srgbClr val="000000"/>
                  </a:solidFill>
                  <a:latin typeface="Times New Roman"/>
                </a:rPr>
                <a:t>ème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, 3</a:t>
              </a:r>
              <a:r>
                <a:rPr b="0" lang="en-US" sz="1100" spc="-1" strike="noStrike" baseline="30000">
                  <a:solidFill>
                    <a:srgbClr val="000000"/>
                  </a:solidFill>
                  <a:latin typeface="Times New Roman"/>
                </a:rPr>
                <a:t>ème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-  SVT 6</a:t>
              </a:r>
              <a:r>
                <a:rPr b="0" lang="en-US" sz="1100" spc="-1" strike="noStrike" baseline="30000">
                  <a:solidFill>
                    <a:srgbClr val="000000"/>
                  </a:solidFill>
                  <a:latin typeface="Times New Roman"/>
                </a:rPr>
                <a:t>ème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- Géo 6</a:t>
              </a:r>
              <a:r>
                <a:rPr b="0" lang="en-US" sz="1100" spc="-1" strike="noStrike" baseline="30000">
                  <a:solidFill>
                    <a:srgbClr val="000000"/>
                  </a:solidFill>
                  <a:latin typeface="Times New Roman"/>
                </a:rPr>
                <a:t>ème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,5</a:t>
              </a:r>
              <a:r>
                <a:rPr b="0" lang="en-US" sz="1100" spc="-1" strike="noStrike" baseline="30000">
                  <a:solidFill>
                    <a:srgbClr val="000000"/>
                  </a:solidFill>
                  <a:latin typeface="Times New Roman"/>
                </a:rPr>
                <a:t>ème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,4</a:t>
              </a:r>
              <a:r>
                <a:rPr b="0" lang="en-US" sz="1100" spc="-1" strike="noStrike" baseline="30000">
                  <a:solidFill>
                    <a:srgbClr val="000000"/>
                  </a:solidFill>
                  <a:latin typeface="Times New Roman"/>
                </a:rPr>
                <a:t>ème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-  SP</a:t>
              </a:r>
              <a:r>
                <a:rPr b="0" lang="en-US" sz="11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1100" spc="-1" strike="noStrike" baseline="30000">
                  <a:solidFill>
                    <a:srgbClr val="000000"/>
                  </a:solidFill>
                  <a:latin typeface="Times New Roman"/>
                </a:rPr>
                <a:t>ème</a:t>
              </a:r>
              <a:r>
                <a:rPr b="0" lang="en-US" sz="1100" spc="-1" strike="noStrike">
                  <a:solidFill>
                    <a:srgbClr val="800000"/>
                  </a:solidFill>
                  <a:latin typeface="Times New Roman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28920" y="1233360"/>
              <a:ext cx="146160" cy="396000"/>
            </a:xfrm>
            <a:prstGeom prst="upArrow">
              <a:avLst>
                <a:gd name="adj1" fmla="val 50000"/>
                <a:gd name="adj2" fmla="val 6773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452000">
              <a:off x="5486400" y="1118880"/>
              <a:ext cx="164880" cy="575640"/>
            </a:xfrm>
            <a:prstGeom prst="upArrow">
              <a:avLst>
                <a:gd name="adj1" fmla="val 50000"/>
                <a:gd name="adj2" fmla="val 8728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3520200">
              <a:off x="6018480" y="1158120"/>
              <a:ext cx="146520" cy="1440000"/>
            </a:xfrm>
            <a:prstGeom prst="upArrow">
              <a:avLst>
                <a:gd name="adj1" fmla="val 50000"/>
                <a:gd name="adj2" fmla="val 2457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136000">
              <a:off x="2743200" y="890280"/>
              <a:ext cx="169200" cy="828000"/>
            </a:xfrm>
            <a:prstGeom prst="upArrow">
              <a:avLst>
                <a:gd name="adj1" fmla="val 50000"/>
                <a:gd name="adj2" fmla="val 1223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9772400">
              <a:off x="2631600" y="1917000"/>
              <a:ext cx="162360" cy="720000"/>
            </a:xfrm>
            <a:prstGeom prst="upArrow">
              <a:avLst>
                <a:gd name="adj1" fmla="val 50000"/>
                <a:gd name="adj2" fmla="val 11086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4446600">
              <a:off x="6157800" y="1818360"/>
              <a:ext cx="122400" cy="1238040"/>
            </a:xfrm>
            <a:prstGeom prst="upArrow">
              <a:avLst>
                <a:gd name="adj1" fmla="val 50000"/>
                <a:gd name="adj2" fmla="val 252868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7965800">
              <a:off x="2405160" y="2809080"/>
              <a:ext cx="146520" cy="626040"/>
            </a:xfrm>
            <a:prstGeom prst="upArrow">
              <a:avLst>
                <a:gd name="adj1" fmla="val 50000"/>
                <a:gd name="adj2" fmla="val 106818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5405400">
              <a:off x="5941080" y="3521520"/>
              <a:ext cx="169920" cy="1080000"/>
            </a:xfrm>
            <a:prstGeom prst="upArrow">
              <a:avLst>
                <a:gd name="adj1" fmla="val 50000"/>
                <a:gd name="adj2" fmla="val 158898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164000">
              <a:off x="2536560" y="3497040"/>
              <a:ext cx="165600" cy="438840"/>
            </a:xfrm>
            <a:prstGeom prst="upArrow">
              <a:avLst>
                <a:gd name="adj1" fmla="val 50000"/>
                <a:gd name="adj2" fmla="val 6625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6339000">
              <a:off x="5758200" y="4263120"/>
              <a:ext cx="177480" cy="647640"/>
            </a:xfrm>
            <a:prstGeom prst="upArrow">
              <a:avLst>
                <a:gd name="adj1" fmla="val 50000"/>
                <a:gd name="adj2" fmla="val 9122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7614600">
              <a:off x="5733000" y="4481640"/>
              <a:ext cx="162360" cy="899640"/>
            </a:xfrm>
            <a:prstGeom prst="upArrow">
              <a:avLst>
                <a:gd name="adj1" fmla="val 50000"/>
                <a:gd name="adj2" fmla="val 13852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9938400">
              <a:off x="4815360" y="4669920"/>
              <a:ext cx="151200" cy="612000"/>
            </a:xfrm>
            <a:prstGeom prst="upArrow">
              <a:avLst>
                <a:gd name="adj1" fmla="val 50000"/>
                <a:gd name="adj2" fmla="val 10119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164000">
              <a:off x="2536560" y="4182840"/>
              <a:ext cx="165600" cy="438840"/>
            </a:xfrm>
            <a:prstGeom prst="upArrow">
              <a:avLst>
                <a:gd name="adj1" fmla="val 50000"/>
                <a:gd name="adj2" fmla="val 6625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3858200">
              <a:off x="2422440" y="4754520"/>
              <a:ext cx="165600" cy="438480"/>
            </a:xfrm>
            <a:prstGeom prst="upArrow">
              <a:avLst>
                <a:gd name="adj1" fmla="val 50000"/>
                <a:gd name="adj2" fmla="val 66196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0" y="6262920"/>
              <a:ext cx="6416640" cy="594360"/>
              <a:chOff x="0" y="6262920"/>
              <a:chExt cx="6416640" cy="59436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6262920"/>
                <a:ext cx="1485720" cy="571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Thème général en liais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1598040" y="6262920"/>
                <a:ext cx="2301840" cy="594360"/>
                <a:chOff x="1598040" y="6262920"/>
                <a:chExt cx="2301840" cy="594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713960" y="6262920"/>
                  <a:ext cx="21715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Activités possibles en :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788560" y="6594120"/>
                  <a:ext cx="539640" cy="25200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V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171160" y="6605640"/>
                  <a:ext cx="539640" cy="25164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P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598040" y="6605640"/>
                  <a:ext cx="539640" cy="25164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ath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360240" y="6594120"/>
                  <a:ext cx="539640" cy="2520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PS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114800" y="6262920"/>
                <a:ext cx="2301840" cy="594360"/>
                <a:chOff x="4114800" y="6262920"/>
                <a:chExt cx="2301840" cy="5943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230720" y="6262920"/>
                  <a:ext cx="21715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Thème général en liaison avec :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305320" y="6594120"/>
                  <a:ext cx="539640" cy="2520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V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687920" y="6605640"/>
                  <a:ext cx="539640" cy="251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P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114800" y="6605640"/>
                  <a:ext cx="539640" cy="251640"/>
                </a:xfrm>
                <a:prstGeom prst="rect">
                  <a:avLst/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H 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877000" y="6594120"/>
                  <a:ext cx="539640" cy="25200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PS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0" name=""/>
            <p:cNvSpPr/>
            <p:nvPr/>
          </p:nvSpPr>
          <p:spPr>
            <a:xfrm rot="5405400">
              <a:off x="6121080" y="2312640"/>
              <a:ext cx="169920" cy="1440000"/>
            </a:xfrm>
            <a:prstGeom prst="upArrow">
              <a:avLst>
                <a:gd name="adj1" fmla="val 50000"/>
                <a:gd name="adj2" fmla="val 21186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5400">
              <a:off x="6121080" y="2769840"/>
              <a:ext cx="169920" cy="1440000"/>
            </a:xfrm>
            <a:prstGeom prst="upArrow">
              <a:avLst>
                <a:gd name="adj1" fmla="val 50000"/>
                <a:gd name="adj2" fmla="val 21186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2012000">
              <a:off x="3314520" y="4662360"/>
              <a:ext cx="151200" cy="612000"/>
            </a:xfrm>
            <a:prstGeom prst="upArrow">
              <a:avLst>
                <a:gd name="adj1" fmla="val 50000"/>
                <a:gd name="adj2" fmla="val 10119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020600" y="624060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c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 autre thème de conve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820000" cy="6629400"/>
            <a:chOff x="0" y="0"/>
            <a:chExt cx="8820000" cy="6629400"/>
          </a:xfrm>
        </p:grpSpPr>
        <p:sp>
          <p:nvSpPr>
            <p:cNvPr id="185" name=""/>
            <p:cNvSpPr/>
            <p:nvPr/>
          </p:nvSpPr>
          <p:spPr>
            <a:xfrm>
              <a:off x="3253320" y="2149920"/>
              <a:ext cx="2473920" cy="151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A TEMPERA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ment la mesure-t-on 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 quoi dépend la température d’un lieu 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uelle est son influence sur l’environnement et les activités humaines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91280" y="178920"/>
              <a:ext cx="2628720" cy="44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lation température  peuplement et activités humaines </a:t>
              </a:r>
              <a:r>
                <a:rPr b="0" lang="en-US" sz="1100" spc="-1" strike="noStrike">
                  <a:solidFill>
                    <a:srgbClr val="008000"/>
                  </a:solidFill>
                  <a:latin typeface="Arial"/>
                </a:rPr>
                <a:t>(Géo 5</a:t>
              </a:r>
              <a:r>
                <a:rPr b="0" lang="en-US" sz="1100" spc="-1" strike="noStrike" baseline="30000">
                  <a:solidFill>
                    <a:srgbClr val="008000"/>
                  </a:solidFill>
                  <a:latin typeface="Arial"/>
                </a:rPr>
                <a:t>ème</a:t>
              </a:r>
              <a:r>
                <a:rPr b="0" lang="en-US" sz="1100" spc="-1" strike="noStrike">
                  <a:solidFill>
                    <a:srgbClr val="008000"/>
                  </a:solidFill>
                  <a:latin typeface="Arial"/>
                </a:rPr>
                <a:t>-4</a:t>
              </a:r>
              <a:r>
                <a:rPr b="0" lang="en-US" sz="1100" spc="-1" strike="noStrike" baseline="30000">
                  <a:solidFill>
                    <a:srgbClr val="008000"/>
                  </a:solidFill>
                  <a:latin typeface="Arial"/>
                </a:rPr>
                <a:t>ème</a:t>
              </a:r>
              <a:r>
                <a:rPr b="0" lang="en-US" sz="1100" spc="-1" strike="noStrike">
                  <a:solidFill>
                    <a:srgbClr val="008000"/>
                  </a:solidFill>
                  <a:latin typeface="Arial"/>
                </a:rPr>
                <a:t>-3</a:t>
              </a:r>
              <a:r>
                <a:rPr b="0" lang="en-US" sz="1100" spc="-1" strike="noStrike" baseline="30000">
                  <a:solidFill>
                    <a:srgbClr val="008000"/>
                  </a:solidFill>
                  <a:latin typeface="Arial"/>
                </a:rPr>
                <a:t>ème</a:t>
              </a:r>
              <a:r>
                <a:rPr b="0" lang="en-US" sz="1100" spc="-1" strike="noStrike">
                  <a:solidFill>
                    <a:srgbClr val="008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45720" y="812160"/>
              <a:ext cx="2164680" cy="441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mpérature en fonction des saisons </a:t>
              </a:r>
              <a:r>
                <a:rPr b="0" lang="en-US" sz="1100" spc="-1" strike="noStrike">
                  <a:solidFill>
                    <a:srgbClr val="008000"/>
                  </a:solidFill>
                  <a:latin typeface="Arial"/>
                </a:rPr>
                <a:t>(Géo 6</a:t>
              </a:r>
              <a:r>
                <a:rPr b="0" lang="en-US" sz="1100" spc="-1" strike="noStrike" baseline="30000">
                  <a:solidFill>
                    <a:srgbClr val="008000"/>
                  </a:solidFill>
                  <a:latin typeface="Arial"/>
                </a:rPr>
                <a:t>ème</a:t>
              </a:r>
              <a:r>
                <a:rPr b="0" lang="en-US" sz="1100" spc="-1" strike="noStrike">
                  <a:solidFill>
                    <a:srgbClr val="008000"/>
                  </a:solidFill>
                  <a:latin typeface="Arial"/>
                </a:rPr>
                <a:t>, SVT 6</a:t>
              </a:r>
              <a:r>
                <a:rPr b="0" lang="en-US" sz="1100" spc="-1" strike="noStrike" baseline="30000">
                  <a:solidFill>
                    <a:srgbClr val="008000"/>
                  </a:solidFill>
                  <a:latin typeface="Arial"/>
                </a:rPr>
                <a:t>ème</a:t>
              </a:r>
              <a:r>
                <a:rPr b="0" lang="en-US" sz="1100" spc="-1" strike="noStrike">
                  <a:solidFill>
                    <a:srgbClr val="008000"/>
                  </a:solidFill>
                  <a:latin typeface="Arial"/>
                </a:rPr>
                <a:t>, SP 4</a:t>
              </a:r>
              <a:r>
                <a:rPr b="0" lang="en-US" sz="1100" spc="-1" strike="noStrike" baseline="30000">
                  <a:solidFill>
                    <a:srgbClr val="008000"/>
                  </a:solidFill>
                  <a:latin typeface="Arial"/>
                </a:rPr>
                <a:t>ème</a:t>
              </a:r>
              <a:r>
                <a:rPr b="0" lang="en-US" sz="1100" spc="-1" strike="noStrike">
                  <a:solidFill>
                    <a:srgbClr val="008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00520" y="1291320"/>
              <a:ext cx="2319480" cy="72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lation température faune et flore ; effet de la température dans les processus d’érosion </a:t>
              </a:r>
              <a:r>
                <a:rPr b="0" lang="en-US" sz="1100" spc="-1" strike="noStrike">
                  <a:solidFill>
                    <a:srgbClr val="008000"/>
                  </a:solidFill>
                  <a:latin typeface="Arial"/>
                </a:rPr>
                <a:t>(SVT 6</a:t>
              </a:r>
              <a:r>
                <a:rPr b="0" lang="en-US" sz="1100" spc="-1" strike="noStrike" baseline="30000">
                  <a:solidFill>
                    <a:srgbClr val="008000"/>
                  </a:solidFill>
                  <a:latin typeface="Arial"/>
                </a:rPr>
                <a:t>ème</a:t>
              </a:r>
              <a:r>
                <a:rPr b="0" lang="en-US" sz="1100" spc="-1" strike="noStrike">
                  <a:solidFill>
                    <a:srgbClr val="008000"/>
                  </a:solidFill>
                  <a:latin typeface="Arial"/>
                </a:rPr>
                <a:t>-5</a:t>
              </a:r>
              <a:r>
                <a:rPr b="0" lang="en-US" sz="1100" spc="-1" strike="noStrike" baseline="30000">
                  <a:solidFill>
                    <a:srgbClr val="008000"/>
                  </a:solidFill>
                  <a:latin typeface="Arial"/>
                </a:rPr>
                <a:t>ème</a:t>
              </a:r>
              <a:r>
                <a:rPr b="0" lang="en-US" sz="1100" spc="-1" strike="noStrike">
                  <a:solidFill>
                    <a:srgbClr val="008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00520" y="2060280"/>
              <a:ext cx="2010240" cy="537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volution de la température au cours des âges </a:t>
              </a:r>
              <a:r>
                <a:rPr b="0" lang="en-US" sz="1100" spc="-1" strike="noStrike">
                  <a:solidFill>
                    <a:srgbClr val="008000"/>
                  </a:solidFill>
                  <a:latin typeface="Arial"/>
                </a:rPr>
                <a:t>(SVT 3</a:t>
              </a:r>
              <a:r>
                <a:rPr b="0" lang="en-US" sz="1100" spc="-1" strike="noStrike" baseline="30000">
                  <a:solidFill>
                    <a:srgbClr val="008000"/>
                  </a:solidFill>
                  <a:latin typeface="Arial"/>
                </a:rPr>
                <a:t>ème</a:t>
              </a:r>
              <a:r>
                <a:rPr b="0" lang="en-US" sz="1100" spc="-1" strike="noStrike">
                  <a:solidFill>
                    <a:srgbClr val="008000"/>
                  </a:solidFill>
                  <a:latin typeface="Arial"/>
                </a:rPr>
                <a:t>)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9040" y="178920"/>
              <a:ext cx="2009880" cy="537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mpératures extrêmes : canicule, grand froid </a:t>
              </a:r>
              <a:r>
                <a:rPr b="0" lang="en-US" sz="1100" spc="-1" strike="noStrike">
                  <a:solidFill>
                    <a:srgbClr val="333399"/>
                  </a:solidFill>
                  <a:latin typeface="Arial"/>
                </a:rPr>
                <a:t>(Santé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4240" y="806040"/>
              <a:ext cx="2167200" cy="621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mpérature et pollution de l’air : ozone </a:t>
              </a:r>
              <a:r>
                <a:rPr b="0" lang="en-US" sz="1100" spc="-1" strike="noStrike">
                  <a:solidFill>
                    <a:srgbClr val="333399"/>
                  </a:solidFill>
                  <a:latin typeface="Arial"/>
                </a:rPr>
                <a:t>(Environnement et développement durabl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4240" y="1522800"/>
              <a:ext cx="1700640" cy="35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nergie solaire </a:t>
              </a:r>
              <a:r>
                <a:rPr b="0" lang="en-US" sz="1100" spc="-1" strike="noStrike">
                  <a:solidFill>
                    <a:srgbClr val="333399"/>
                  </a:solidFill>
                  <a:latin typeface="Arial"/>
                </a:rPr>
                <a:t>(Energi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5000" y="1970640"/>
              <a:ext cx="2164680" cy="627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atistiques climatologiques </a:t>
              </a:r>
              <a:r>
                <a:rPr b="0" lang="en-US" sz="1100" spc="-1" strike="noStrike">
                  <a:solidFill>
                    <a:srgbClr val="333399"/>
                  </a:solidFill>
                  <a:latin typeface="Arial"/>
                </a:rPr>
                <a:t>(Importance du mode pensée statistiqu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00520" y="2693520"/>
              <a:ext cx="2010240" cy="621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sure de la température dans une station météorologique </a:t>
              </a:r>
              <a:r>
                <a:rPr b="0" lang="en-US" sz="1100" spc="-1" strike="noStrike">
                  <a:solidFill>
                    <a:srgbClr val="008000"/>
                  </a:solidFill>
                  <a:latin typeface="Arial"/>
                </a:rPr>
                <a:t>(SP 5</a:t>
              </a:r>
              <a:r>
                <a:rPr b="0" lang="en-US" sz="1100" spc="-1" strike="noStrike" baseline="30000">
                  <a:solidFill>
                    <a:srgbClr val="008000"/>
                  </a:solidFill>
                  <a:latin typeface="Arial"/>
                </a:rPr>
                <a:t>ème</a:t>
              </a:r>
              <a:r>
                <a:rPr b="0" lang="en-US" sz="1100" spc="-1" strike="noStrike">
                  <a:solidFill>
                    <a:srgbClr val="008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62200" y="0"/>
              <a:ext cx="2010240" cy="44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ifférents climats sur la Terre </a:t>
              </a:r>
              <a:r>
                <a:rPr b="0" lang="en-US" sz="1100" spc="-1" strike="noStrike">
                  <a:solidFill>
                    <a:srgbClr val="008000"/>
                  </a:solidFill>
                  <a:latin typeface="Arial"/>
                </a:rPr>
                <a:t>(Géo 6</a:t>
              </a:r>
              <a:r>
                <a:rPr b="0" lang="en-US" sz="1100" spc="-1" strike="noStrike" baseline="30000">
                  <a:solidFill>
                    <a:srgbClr val="008000"/>
                  </a:solidFill>
                  <a:latin typeface="Arial"/>
                </a:rPr>
                <a:t>ème</a:t>
              </a:r>
              <a:r>
                <a:rPr b="0" lang="en-US" sz="1100" spc="-1" strike="noStrike">
                  <a:solidFill>
                    <a:srgbClr val="008000"/>
                  </a:solidFill>
                  <a:latin typeface="Arial"/>
                </a:rPr>
                <a:t> SP 4</a:t>
              </a:r>
              <a:r>
                <a:rPr b="0" lang="en-US" sz="1100" spc="-1" strike="noStrike" baseline="30000">
                  <a:solidFill>
                    <a:srgbClr val="008000"/>
                  </a:solidFill>
                  <a:latin typeface="Arial"/>
                </a:rPr>
                <a:t>ème</a:t>
              </a:r>
              <a:r>
                <a:rPr b="0" lang="en-US" sz="1100" spc="-1" strike="noStrike">
                  <a:solidFill>
                    <a:srgbClr val="008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5000" y="2693520"/>
              <a:ext cx="2164680" cy="531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istoire des mesures de températures </a:t>
              </a:r>
              <a:r>
                <a:rPr b="0" lang="en-US" sz="1100" spc="-1" strike="noStrike">
                  <a:solidFill>
                    <a:srgbClr val="808080"/>
                  </a:solidFill>
                  <a:latin typeface="Arial"/>
                </a:rPr>
                <a:t>(Histoire des Sciences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00520" y="4120920"/>
              <a:ext cx="2164680" cy="358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sures de températures </a:t>
              </a:r>
              <a:r>
                <a:rPr b="0" lang="en-US" sz="1100" spc="-1" strike="noStrike">
                  <a:solidFill>
                    <a:srgbClr val="800000"/>
                  </a:solidFill>
                  <a:latin typeface="Arial"/>
                </a:rPr>
                <a:t>(SP 5</a:t>
              </a:r>
              <a:r>
                <a:rPr b="0" lang="en-US" sz="1100" spc="-1" strike="noStrike" baseline="30000">
                  <a:solidFill>
                    <a:srgbClr val="800000"/>
                  </a:solidFill>
                  <a:latin typeface="Arial"/>
                </a:rPr>
                <a:t>ème</a:t>
              </a:r>
              <a:r>
                <a:rPr b="0" lang="en-US" sz="1100" spc="-1" strike="noStrike">
                  <a:solidFill>
                    <a:srgbClr val="800000"/>
                  </a:solidFill>
                  <a:latin typeface="Arial"/>
                </a:rPr>
                <a:t>, SVT 6</a:t>
              </a:r>
              <a:r>
                <a:rPr b="0" lang="en-US" sz="1100" spc="-1" strike="noStrike" baseline="30000">
                  <a:solidFill>
                    <a:srgbClr val="800000"/>
                  </a:solidFill>
                  <a:latin typeface="Arial"/>
                </a:rPr>
                <a:t>ème</a:t>
              </a:r>
              <a:r>
                <a:rPr b="0" lang="en-US" sz="1100" spc="-1" strike="noStrike">
                  <a:solidFill>
                    <a:srgbClr val="800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0560" y="3299760"/>
              <a:ext cx="2576160" cy="4478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tilisation des TICE : sites météo, logiciel (tableur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00520" y="4658400"/>
              <a:ext cx="2010240" cy="358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bservation de faune et de flor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SVT </a:t>
              </a:r>
              <a:r>
                <a:rPr b="0" lang="en-US" sz="1100" spc="-1" strike="noStrike">
                  <a:solidFill>
                    <a:srgbClr val="800000"/>
                  </a:solidFill>
                  <a:latin typeface="Arial"/>
                </a:rPr>
                <a:t>6</a:t>
              </a:r>
              <a:r>
                <a:rPr b="0" lang="en-US" sz="1100" spc="-1" strike="noStrike" baseline="30000">
                  <a:solidFill>
                    <a:srgbClr val="800000"/>
                  </a:solidFill>
                  <a:latin typeface="Arial"/>
                </a:rPr>
                <a:t>ème</a:t>
              </a: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7280" y="3941640"/>
              <a:ext cx="1855440" cy="358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cherche documentai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91280" y="5285520"/>
              <a:ext cx="2483280" cy="531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struction d’un thermomètre à liquide </a:t>
              </a:r>
              <a:r>
                <a:rPr b="0" lang="en-US" sz="1100" spc="-1" strike="noStrike">
                  <a:solidFill>
                    <a:srgbClr val="800000"/>
                  </a:solidFill>
                  <a:latin typeface="Arial"/>
                </a:rPr>
                <a:t>(Technologi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63720" y="5195880"/>
              <a:ext cx="4979880" cy="71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stion des données : construction, lecture et exploitation de tableaux et de courbes de température (Math 6</a:t>
              </a:r>
              <a:r>
                <a:rPr b="0" lang="en-US" sz="1100" spc="-1" strike="noStrike" baseline="30000">
                  <a:solidFill>
                    <a:srgbClr val="000000"/>
                  </a:solidFill>
                  <a:latin typeface="Arial"/>
                </a:rPr>
                <a:t>ème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,5° 4° 3° SVT 6</a:t>
              </a:r>
              <a:r>
                <a:rPr b="0" lang="en-US" sz="1100" spc="-1" strike="noStrike" baseline="30000">
                  <a:solidFill>
                    <a:srgbClr val="000000"/>
                  </a:solidFill>
                  <a:latin typeface="Arial"/>
                </a:rPr>
                <a:t>ème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, Géo 6</a:t>
              </a:r>
              <a:r>
                <a:rPr b="0" lang="en-US" sz="1100" spc="-1" strike="noStrike" baseline="30000">
                  <a:solidFill>
                    <a:srgbClr val="000000"/>
                  </a:solidFill>
                  <a:latin typeface="Arial"/>
                </a:rPr>
                <a:t>ème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r>
                <a:rPr b="0" lang="en-US" sz="1100" spc="-1" strike="noStrike" baseline="30000">
                  <a:solidFill>
                    <a:srgbClr val="000000"/>
                  </a:solidFill>
                  <a:latin typeface="Arial"/>
                </a:rPr>
                <a:t>ème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r>
                <a:rPr b="0" lang="en-US" sz="1100" spc="-1" strike="noStrike" baseline="30000">
                  <a:solidFill>
                    <a:srgbClr val="000000"/>
                  </a:solidFill>
                  <a:latin typeface="Arial"/>
                </a:rPr>
                <a:t>ème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, SP 5</a:t>
              </a:r>
              <a:r>
                <a:rPr b="0" lang="en-US" sz="1100" spc="-1" strike="noStrike" baseline="30000">
                  <a:solidFill>
                    <a:srgbClr val="000000"/>
                  </a:solidFill>
                  <a:latin typeface="Arial"/>
                </a:rPr>
                <a:t>ème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) Les différentes échelles de température (conversion °C, F) (maths 3</a:t>
              </a:r>
              <a:r>
                <a:rPr b="0" lang="en-US" sz="1100" spc="-1" strike="noStrike" baseline="30000">
                  <a:solidFill>
                    <a:srgbClr val="000000"/>
                  </a:solidFill>
                  <a:latin typeface="Arial"/>
                </a:rPr>
                <a:t>ème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4389840"/>
              <a:ext cx="3052080" cy="6267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délisation des températures par des nombres relatifs (maths 5</a:t>
              </a:r>
              <a:r>
                <a:rPr b="0" lang="en-US" sz="1100" spc="-1" strike="noStrike" baseline="30000">
                  <a:solidFill>
                    <a:srgbClr val="000000"/>
                  </a:solidFill>
                  <a:latin typeface="Arial"/>
                </a:rPr>
                <a:t>ème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) Calcul de températures moyennes et exploitation (Math 4</a:t>
              </a:r>
              <a:r>
                <a:rPr b="0" lang="en-US" sz="1100" spc="-1" strike="noStrike" baseline="30000">
                  <a:solidFill>
                    <a:srgbClr val="000000"/>
                  </a:solidFill>
                  <a:latin typeface="Arial"/>
                </a:rPr>
                <a:t>ème –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100" spc="-1" strike="noStrike" baseline="30000">
                  <a:solidFill>
                    <a:srgbClr val="000000"/>
                  </a:solidFill>
                  <a:latin typeface="Arial"/>
                </a:rPr>
                <a:t>ème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90280" y="537480"/>
              <a:ext cx="154440" cy="1522800"/>
            </a:xfrm>
            <a:prstGeom prst="upArrow">
              <a:avLst>
                <a:gd name="adj1" fmla="val 50000"/>
                <a:gd name="adj2" fmla="val 246503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452000">
              <a:off x="5415120" y="324360"/>
              <a:ext cx="174240" cy="1827000"/>
            </a:xfrm>
            <a:prstGeom prst="upArrow">
              <a:avLst>
                <a:gd name="adj1" fmla="val 50000"/>
                <a:gd name="adj2" fmla="val 262138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888800">
              <a:off x="5735520" y="1073520"/>
              <a:ext cx="171720" cy="1083240"/>
            </a:xfrm>
            <a:prstGeom prst="upArrow">
              <a:avLst>
                <a:gd name="adj1" fmla="val 50000"/>
                <a:gd name="adj2" fmla="val 15770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20136000">
              <a:off x="3407760" y="268560"/>
              <a:ext cx="178560" cy="1881360"/>
            </a:xfrm>
            <a:prstGeom prst="upArrow">
              <a:avLst>
                <a:gd name="adj1" fmla="val 50000"/>
                <a:gd name="adj2" fmla="val 26340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20006400">
              <a:off x="3253320" y="1074600"/>
              <a:ext cx="171720" cy="1083240"/>
            </a:xfrm>
            <a:prstGeom prst="upArrow">
              <a:avLst>
                <a:gd name="adj1" fmla="val 50000"/>
                <a:gd name="adj2" fmla="val 15770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2838000">
              <a:off x="5937120" y="1271880"/>
              <a:ext cx="106920" cy="1145880"/>
            </a:xfrm>
            <a:prstGeom prst="upArrow">
              <a:avLst>
                <a:gd name="adj1" fmla="val 50000"/>
                <a:gd name="adj2" fmla="val 267929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8668400">
              <a:off x="2878560" y="1243080"/>
              <a:ext cx="106920" cy="1236960"/>
            </a:xfrm>
            <a:prstGeom prst="upArrow">
              <a:avLst>
                <a:gd name="adj1" fmla="val 50000"/>
                <a:gd name="adj2" fmla="val 289226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5405400">
              <a:off x="6050520" y="2069280"/>
              <a:ext cx="123840" cy="463680"/>
            </a:xfrm>
            <a:prstGeom prst="upArrow">
              <a:avLst>
                <a:gd name="adj1" fmla="val 50000"/>
                <a:gd name="adj2" fmla="val 9360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164000">
              <a:off x="2806200" y="2157840"/>
              <a:ext cx="120960" cy="463680"/>
            </a:xfrm>
            <a:prstGeom prst="upArrow">
              <a:avLst>
                <a:gd name="adj1" fmla="val 50000"/>
                <a:gd name="adj2" fmla="val 95833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8593200">
              <a:off x="6036120" y="2418840"/>
              <a:ext cx="184680" cy="663840"/>
            </a:xfrm>
            <a:prstGeom prst="upArrow">
              <a:avLst>
                <a:gd name="adj1" fmla="val 50000"/>
                <a:gd name="adj2" fmla="val 8986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2925200">
              <a:off x="2788560" y="2508120"/>
              <a:ext cx="184680" cy="663840"/>
            </a:xfrm>
            <a:prstGeom prst="upArrow">
              <a:avLst>
                <a:gd name="adj1" fmla="val 50000"/>
                <a:gd name="adj2" fmla="val 8986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4240" y="6271200"/>
              <a:ext cx="2164680" cy="358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ème général en liaison avec </a:t>
              </a:r>
              <a:r>
                <a:rPr b="0" lang="en-US" sz="1100" spc="-1" strike="noStrike">
                  <a:solidFill>
                    <a:srgbClr val="008000"/>
                  </a:solidFill>
                  <a:latin typeface="Arial"/>
                </a:rPr>
                <a:t>une matiè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43720" y="6133680"/>
              <a:ext cx="2937960" cy="489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ème général en liaison avec </a:t>
              </a:r>
              <a:r>
                <a:rPr b="0" lang="en-US" sz="1100" spc="-1" strike="noStrike">
                  <a:solidFill>
                    <a:srgbClr val="333399"/>
                  </a:solidFill>
                  <a:latin typeface="Arial"/>
                </a:rPr>
                <a:t>un autre thème de convergence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ou </a:t>
              </a:r>
              <a:r>
                <a:rPr b="0" lang="en-US" sz="1100" spc="-1" strike="noStrike">
                  <a:solidFill>
                    <a:srgbClr val="808080"/>
                  </a:solidFill>
                  <a:latin typeface="Arial"/>
                </a:rPr>
                <a:t>d’histoire des scien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9318600">
              <a:off x="6038640" y="2868840"/>
              <a:ext cx="153720" cy="902160"/>
            </a:xfrm>
            <a:prstGeom prst="upArrow">
              <a:avLst>
                <a:gd name="adj1" fmla="val 50000"/>
                <a:gd name="adj2" fmla="val 146721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2926400">
              <a:off x="2983320" y="3086280"/>
              <a:ext cx="133920" cy="326160"/>
            </a:xfrm>
            <a:prstGeom prst="upArrow">
              <a:avLst>
                <a:gd name="adj1" fmla="val 50000"/>
                <a:gd name="adj2" fmla="val 6088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2600600">
              <a:off x="2649240" y="3632760"/>
              <a:ext cx="132120" cy="619200"/>
            </a:xfrm>
            <a:prstGeom prst="upArrow">
              <a:avLst>
                <a:gd name="adj1" fmla="val 50000"/>
                <a:gd name="adj2" fmla="val 117166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9186600">
              <a:off x="6114240" y="3635280"/>
              <a:ext cx="132120" cy="810000"/>
            </a:xfrm>
            <a:prstGeom prst="upArrow">
              <a:avLst>
                <a:gd name="adj1" fmla="val 50000"/>
                <a:gd name="adj2" fmla="val 1532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rot="9508200">
              <a:off x="5619600" y="3697560"/>
              <a:ext cx="193320" cy="1615320"/>
            </a:xfrm>
            <a:prstGeom prst="upArrow">
              <a:avLst>
                <a:gd name="adj1" fmla="val 50000"/>
                <a:gd name="adj2" fmla="val 20889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rot="12039600">
              <a:off x="3383640" y="3697560"/>
              <a:ext cx="176400" cy="1559160"/>
            </a:xfrm>
            <a:prstGeom prst="upArrow">
              <a:avLst>
                <a:gd name="adj1" fmla="val 50000"/>
                <a:gd name="adj2" fmla="val 220969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9327600">
              <a:off x="5923800" y="3746880"/>
              <a:ext cx="144000" cy="1045080"/>
            </a:xfrm>
            <a:prstGeom prst="upArrow">
              <a:avLst>
                <a:gd name="adj1" fmla="val 50000"/>
                <a:gd name="adj2" fmla="val 181438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rot="12416400">
              <a:off x="3201480" y="3723840"/>
              <a:ext cx="147960" cy="726840"/>
            </a:xfrm>
            <a:prstGeom prst="upArrow">
              <a:avLst>
                <a:gd name="adj1" fmla="val 50000"/>
                <a:gd name="adj2" fmla="val 12281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36480" y="6271200"/>
              <a:ext cx="2473920" cy="358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ctivités possibles suivant </a:t>
              </a:r>
              <a:r>
                <a:rPr b="0" lang="en-US" sz="1100" spc="-1" strike="noStrike">
                  <a:solidFill>
                    <a:srgbClr val="800000"/>
                  </a:solidFill>
                  <a:latin typeface="Arial"/>
                </a:rPr>
                <a:t>les matièr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rot="10845000">
              <a:off x="4410360" y="3884040"/>
              <a:ext cx="169920" cy="1310400"/>
            </a:xfrm>
            <a:prstGeom prst="upArrow">
              <a:avLst>
                <a:gd name="adj1" fmla="val 50000"/>
                <a:gd name="adj2" fmla="val 19279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00520" y="3493800"/>
              <a:ext cx="2319480" cy="4478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ffet du rayonnement solaire sur la température </a:t>
              </a:r>
              <a:r>
                <a:rPr b="0" lang="en-US" sz="1100" spc="-1" strike="noStrike">
                  <a:solidFill>
                    <a:srgbClr val="800000"/>
                  </a:solidFill>
                  <a:latin typeface="Arial"/>
                </a:rPr>
                <a:t>(SP 4</a:t>
              </a:r>
              <a:r>
                <a:rPr b="0" lang="en-US" sz="1100" spc="-1" strike="noStrike" baseline="30000">
                  <a:solidFill>
                    <a:srgbClr val="800000"/>
                  </a:solidFill>
                  <a:latin typeface="Arial"/>
                </a:rPr>
                <a:t>ème</a:t>
              </a:r>
              <a:r>
                <a:rPr b="0" lang="en-US" sz="1100" spc="-1" strike="noStrike">
                  <a:solidFill>
                    <a:srgbClr val="800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791320" y="2438280"/>
            <a:ext cx="2136600" cy="1257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66cc"/>
                </a:solidFill>
                <a:uFillTx/>
                <a:latin typeface="Times New Roman"/>
                <a:hlinkClick r:id="rId1"/>
              </a:rPr>
              <a:t>Mesures de la vitesse et de la direction du vent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800000"/>
                </a:solidFill>
                <a:latin typeface="Times New Roman"/>
              </a:rPr>
              <a:t>(SP 5</a:t>
            </a:r>
            <a:r>
              <a:rPr b="0" lang="en-US" sz="1100" spc="-1" strike="noStrike" baseline="30000">
                <a:solidFill>
                  <a:srgbClr val="800000"/>
                </a:solidFill>
                <a:latin typeface="Times New Roman"/>
              </a:rPr>
              <a:t>ème</a:t>
            </a:r>
            <a:r>
              <a:rPr b="0" lang="en-US" sz="1100" spc="-1" strike="noStrike">
                <a:solidFill>
                  <a:srgbClr val="800000"/>
                </a:solidFill>
                <a:latin typeface="Times New Roman"/>
              </a:rPr>
              <a:t>-4</a:t>
            </a:r>
            <a:r>
              <a:rPr b="0" lang="en-US" sz="1100" spc="-1" strike="noStrike" baseline="30000">
                <a:solidFill>
                  <a:srgbClr val="800000"/>
                </a:solidFill>
                <a:latin typeface="Times New Roman"/>
              </a:rPr>
              <a:t>ème</a:t>
            </a:r>
            <a:r>
              <a:rPr b="0" lang="en-US" sz="1100" spc="-1" strike="noStrike">
                <a:solidFill>
                  <a:srgbClr val="800000"/>
                </a:solidFill>
                <a:latin typeface="Times New Roman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en avec les translations (pour la modélisation des vents), notions de « vent vitesse » et de « vent réel" (lien maths3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- EPS (voile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rot="9036600">
            <a:off x="4267080" y="4266360"/>
            <a:ext cx="118800" cy="2448000"/>
          </a:xfrm>
          <a:prstGeom prst="upArrow">
            <a:avLst>
              <a:gd name="adj1" fmla="val 50000"/>
              <a:gd name="adj2" fmla="val 51515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67480" y="6172200"/>
            <a:ext cx="16765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ème général en liaison avec </a:t>
            </a:r>
            <a:r>
              <a:rPr b="0" lang="en-US" sz="1100" spc="-1" strike="noStrike">
                <a:solidFill>
                  <a:srgbClr val="008000"/>
                </a:solidFill>
                <a:latin typeface="Times New Roman"/>
              </a:rPr>
              <a:t>une matiè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47040" y="5181480"/>
            <a:ext cx="1596960" cy="946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ème général en liaison avec </a:t>
            </a:r>
            <a:r>
              <a:rPr b="0" lang="en-US" sz="1100" spc="-1" strike="noStrike">
                <a:solidFill>
                  <a:srgbClr val="333399"/>
                </a:solidFill>
                <a:latin typeface="Times New Roman"/>
              </a:rPr>
              <a:t>un autre thème de convergenc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ou </a:t>
            </a:r>
            <a:r>
              <a:rPr b="0" lang="en-US" sz="1100" spc="-1" strike="noStrike">
                <a:solidFill>
                  <a:srgbClr val="808080"/>
                </a:solidFill>
                <a:latin typeface="Times New Roman"/>
              </a:rPr>
              <a:t>d’histoire des scien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67480" y="4572000"/>
            <a:ext cx="167652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ctivités possibles suivant </a:t>
            </a:r>
            <a:r>
              <a:rPr b="0" lang="en-US" sz="1100" spc="-1" strike="noStrike">
                <a:solidFill>
                  <a:srgbClr val="800000"/>
                </a:solidFill>
                <a:latin typeface="Times New Roman"/>
              </a:rPr>
              <a:t>les matiè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50960" y="2833560"/>
            <a:ext cx="1987560" cy="15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LE 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cc"/>
                </a:solidFill>
                <a:uFillTx/>
                <a:latin typeface="Times New Roman"/>
                <a:hlinkClick r:id="rId2"/>
              </a:rPr>
              <a:t>Qu’est-ce que le vent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Comment caractérise-t-on un vent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Quels sont les effets du vent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cc"/>
                </a:solidFill>
                <a:uFillTx/>
                <a:latin typeface="Times New Roman"/>
                <a:hlinkClick r:id="rId3"/>
              </a:rPr>
              <a:t>Activ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cc"/>
                </a:solidFill>
                <a:uFillTx/>
                <a:latin typeface="Times New Roman"/>
                <a:hlinkClick r:id="rId4"/>
              </a:rPr>
              <a:t>Texte histo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02120" y="822240"/>
            <a:ext cx="211320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Qu’est-ce que le vent </a:t>
            </a:r>
            <a:r>
              <a:rPr b="0" lang="en-US" sz="1100" spc="-1" strike="noStrike">
                <a:solidFill>
                  <a:srgbClr val="008000"/>
                </a:solidFill>
                <a:latin typeface="Times New Roman"/>
              </a:rPr>
              <a:t>(SP 4</a:t>
            </a:r>
            <a:r>
              <a:rPr b="0" lang="en-US" sz="1100" spc="-1" strike="noStrike" baseline="30000">
                <a:solidFill>
                  <a:srgbClr val="008000"/>
                </a:solidFill>
                <a:latin typeface="Times New Roman"/>
              </a:rPr>
              <a:t>ème</a:t>
            </a:r>
            <a:r>
              <a:rPr b="0" lang="en-US" sz="11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27480" y="1270080"/>
            <a:ext cx="1492560" cy="438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Vents et climats </a:t>
            </a:r>
            <a:r>
              <a:rPr b="0" lang="en-US" sz="1100" spc="-1" strike="noStrike">
                <a:solidFill>
                  <a:srgbClr val="008000"/>
                </a:solidFill>
                <a:latin typeface="Times New Roman"/>
              </a:rPr>
              <a:t>(SVT - Géo 6</a:t>
            </a:r>
            <a:r>
              <a:rPr b="0" lang="en-US" sz="1100" spc="-1" strike="noStrike" baseline="30000">
                <a:solidFill>
                  <a:srgbClr val="008000"/>
                </a:solidFill>
                <a:latin typeface="Times New Roman"/>
              </a:rPr>
              <a:t>ème</a:t>
            </a:r>
            <a:r>
              <a:rPr b="0" lang="en-US" sz="11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56360" y="1865160"/>
            <a:ext cx="1614240" cy="559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isque cyclonique et conséquences </a:t>
            </a:r>
            <a:r>
              <a:rPr b="0" lang="en-US" sz="1100" spc="-1" strike="noStrike">
                <a:solidFill>
                  <a:srgbClr val="008000"/>
                </a:solidFill>
                <a:latin typeface="Times New Roman"/>
              </a:rPr>
              <a:t>(E.C. 5</a:t>
            </a:r>
            <a:r>
              <a:rPr b="0" lang="en-US" sz="1100" spc="-1" strike="noStrike" baseline="30000">
                <a:solidFill>
                  <a:srgbClr val="008000"/>
                </a:solidFill>
                <a:latin typeface="Times New Roman"/>
              </a:rPr>
              <a:t>ème</a:t>
            </a:r>
            <a:r>
              <a:rPr b="0" lang="en-US" sz="1100" spc="-1" strike="noStrike">
                <a:solidFill>
                  <a:srgbClr val="008000"/>
                </a:solidFill>
                <a:latin typeface="Times New Roman"/>
              </a:rPr>
              <a:t>-3</a:t>
            </a:r>
            <a:r>
              <a:rPr b="0" lang="en-US" sz="1100" spc="-1" strike="noStrike" baseline="30000">
                <a:solidFill>
                  <a:srgbClr val="008000"/>
                </a:solidFill>
                <a:latin typeface="Times New Roman"/>
              </a:rPr>
              <a:t>ème</a:t>
            </a:r>
            <a:r>
              <a:rPr b="0" lang="en-US" sz="11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81760" y="4621320"/>
            <a:ext cx="1834920" cy="79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istinction rafale et vent moy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terprétation de données </a:t>
            </a:r>
            <a:r>
              <a:rPr b="0" lang="en-US" sz="1100" spc="-1" strike="noStrike">
                <a:solidFill>
                  <a:srgbClr val="993300"/>
                </a:solidFill>
                <a:latin typeface="Times New Roman"/>
              </a:rPr>
              <a:t>(Maths 5</a:t>
            </a:r>
            <a:r>
              <a:rPr b="0" lang="en-US" sz="1100" spc="-1" strike="noStrike" baseline="30000">
                <a:solidFill>
                  <a:srgbClr val="993300"/>
                </a:solidFill>
                <a:latin typeface="Times New Roman"/>
              </a:rPr>
              <a:t>ème</a:t>
            </a:r>
            <a:r>
              <a:rPr b="0" lang="en-US" sz="11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87560" y="227160"/>
            <a:ext cx="1616040" cy="446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e vent, une source d’énergie </a:t>
            </a:r>
            <a:r>
              <a:rPr b="0" lang="en-US" sz="1100" spc="-1" strike="noStrike">
                <a:solidFill>
                  <a:srgbClr val="333399"/>
                </a:solidFill>
                <a:latin typeface="Times New Roman"/>
              </a:rPr>
              <a:t>(Energi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9120" y="152280"/>
            <a:ext cx="1743120" cy="55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Vent et pollution de l’ai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Times New Roman"/>
              </a:rPr>
              <a:t>(EEDD – SVT 5</a:t>
            </a:r>
            <a:r>
              <a:rPr b="0" lang="en-US" sz="1100" spc="-1" strike="noStrike" baseline="30000">
                <a:solidFill>
                  <a:srgbClr val="333399"/>
                </a:solidFill>
                <a:latin typeface="Times New Roman"/>
              </a:rPr>
              <a:t>ème</a:t>
            </a:r>
            <a:r>
              <a:rPr b="0" lang="en-US" sz="11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6600" y="896760"/>
            <a:ext cx="1492200" cy="447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empêtes et cyclones </a:t>
            </a:r>
            <a:r>
              <a:rPr b="0" lang="en-US" sz="1100" spc="-1" strike="noStrike">
                <a:solidFill>
                  <a:srgbClr val="333399"/>
                </a:solidFill>
                <a:latin typeface="Times New Roman"/>
              </a:rPr>
              <a:t>(Sécurit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7840" y="1492200"/>
            <a:ext cx="1616040" cy="78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tatistiques climatologiques </a:t>
            </a:r>
            <a:r>
              <a:rPr b="0" lang="en-US" sz="1100" spc="-1" strike="noStrike">
                <a:solidFill>
                  <a:srgbClr val="333399"/>
                </a:solidFill>
                <a:latin typeface="Times New Roman"/>
              </a:rPr>
              <a:t>(Importance du mode pensée statistiqu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9080" y="2460600"/>
            <a:ext cx="1738080" cy="447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’échelle de Beaufort </a:t>
            </a:r>
            <a:r>
              <a:rPr b="0" lang="en-US" sz="1100" spc="-1" strike="noStrike">
                <a:solidFill>
                  <a:srgbClr val="808080"/>
                </a:solidFill>
                <a:latin typeface="Times New Roman"/>
              </a:rPr>
              <a:t>(Histoire des Science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30560"/>
            <a:ext cx="1614240" cy="447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Utilisation des TICE : sites météo, logici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84720" y="5513400"/>
            <a:ext cx="1614600" cy="55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Vents violents et sécurité routière (</a:t>
            </a:r>
            <a:r>
              <a:rPr b="0" lang="en-US" sz="1100" spc="-1" strike="noStrike">
                <a:solidFill>
                  <a:srgbClr val="800000"/>
                </a:solidFill>
                <a:latin typeface="Times New Roman"/>
              </a:rPr>
              <a:t>SP 3</a:t>
            </a:r>
            <a:r>
              <a:rPr b="0" lang="en-US" sz="1100" spc="-1" strike="noStrike" baseline="30000">
                <a:solidFill>
                  <a:srgbClr val="800000"/>
                </a:solidFill>
                <a:latin typeface="Times New Roman"/>
              </a:rPr>
              <a:t>ème</a:t>
            </a:r>
            <a:r>
              <a:rPr b="0" lang="en-US" sz="1100" spc="-1" strike="noStrike">
                <a:solidFill>
                  <a:srgbClr val="800000"/>
                </a:solidFill>
                <a:latin typeface="Times New Roman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1840" y="4471920"/>
            <a:ext cx="1616040" cy="662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struction d’une girouette </a:t>
            </a:r>
            <a:r>
              <a:rPr b="0" lang="en-US" sz="1100" spc="-1" strike="noStrike">
                <a:solidFill>
                  <a:srgbClr val="800000"/>
                </a:solidFill>
                <a:latin typeface="Times New Roman"/>
              </a:rPr>
              <a:t>(Technologi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6095880"/>
            <a:ext cx="1863720" cy="559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ifférentes unités de vitesse </a:t>
            </a:r>
            <a:r>
              <a:rPr b="0" lang="en-US" sz="1100" spc="-1" strike="noStrike">
                <a:solidFill>
                  <a:srgbClr val="800000"/>
                </a:solidFill>
                <a:latin typeface="Times New Roman"/>
              </a:rPr>
              <a:t>(Math 4</a:t>
            </a:r>
            <a:r>
              <a:rPr b="0" lang="en-US" sz="1100" spc="-1" strike="noStrike" baseline="30000">
                <a:solidFill>
                  <a:srgbClr val="800000"/>
                </a:solidFill>
                <a:latin typeface="Times New Roman"/>
              </a:rPr>
              <a:t>ème</a:t>
            </a:r>
            <a:r>
              <a:rPr b="0" lang="en-US" sz="1100" spc="-1" strike="noStrike">
                <a:solidFill>
                  <a:srgbClr val="800000"/>
                </a:solidFill>
                <a:latin typeface="Times New Roman"/>
              </a:rPr>
              <a:t>, SP 4</a:t>
            </a:r>
            <a:r>
              <a:rPr b="0" lang="en-US" sz="1100" spc="-1" strike="noStrike" baseline="30000">
                <a:solidFill>
                  <a:srgbClr val="800000"/>
                </a:solidFill>
                <a:latin typeface="Times New Roman"/>
              </a:rPr>
              <a:t>ème</a:t>
            </a:r>
            <a:r>
              <a:rPr b="0" lang="en-US" sz="1100" spc="-1" strike="noStrike">
                <a:solidFill>
                  <a:srgbClr val="800000"/>
                </a:solidFill>
                <a:latin typeface="Times New Roman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935600" y="6259680"/>
            <a:ext cx="1863720" cy="446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onctionnement d’une centrale éolienne </a:t>
            </a:r>
            <a:r>
              <a:rPr b="0" lang="en-US" sz="1100" spc="-1" strike="noStrike">
                <a:solidFill>
                  <a:srgbClr val="800000"/>
                </a:solidFill>
                <a:latin typeface="Times New Roman"/>
              </a:rPr>
              <a:t>(SP 3</a:t>
            </a:r>
            <a:r>
              <a:rPr b="0" lang="en-US" sz="1100" spc="-1" strike="noStrike" baseline="30000">
                <a:solidFill>
                  <a:srgbClr val="800000"/>
                </a:solidFill>
                <a:latin typeface="Times New Roman"/>
              </a:rPr>
              <a:t>ème</a:t>
            </a:r>
            <a:r>
              <a:rPr b="0" lang="en-US" sz="1100" spc="-1" strike="noStrike">
                <a:solidFill>
                  <a:srgbClr val="800000"/>
                </a:solidFill>
                <a:latin typeface="Times New Roman"/>
              </a:rPr>
              <a:t>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7080" y="6146640"/>
            <a:ext cx="1863720" cy="559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tude ou construction d’une rose des vents </a:t>
            </a:r>
            <a:r>
              <a:rPr b="0" lang="en-US" sz="1100" spc="-1" strike="noStrike">
                <a:solidFill>
                  <a:srgbClr val="800000"/>
                </a:solidFill>
                <a:latin typeface="Times New Roman"/>
              </a:rPr>
              <a:t>(Math 3</a:t>
            </a:r>
            <a:r>
              <a:rPr b="0" lang="en-US" sz="1100" spc="-1" strike="noStrike" baseline="30000">
                <a:solidFill>
                  <a:srgbClr val="800000"/>
                </a:solidFill>
                <a:latin typeface="Times New Roman"/>
              </a:rPr>
              <a:t>ème</a:t>
            </a:r>
            <a:r>
              <a:rPr b="0" lang="en-US" sz="1100" spc="-1" strike="noStrike">
                <a:solidFill>
                  <a:srgbClr val="800000"/>
                </a:solidFill>
                <a:latin typeface="Times New Roman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452000">
            <a:off x="4446360" y="520560"/>
            <a:ext cx="141120" cy="2276640"/>
          </a:xfrm>
          <a:prstGeom prst="upArrow">
            <a:avLst>
              <a:gd name="adj1" fmla="val 50000"/>
              <a:gd name="adj2" fmla="val 40331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888800">
            <a:off x="4806720" y="1486080"/>
            <a:ext cx="137880" cy="1352520"/>
          </a:xfrm>
          <a:prstGeom prst="upArrow">
            <a:avLst>
              <a:gd name="adj1" fmla="val 50000"/>
              <a:gd name="adj2" fmla="val 24523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20136000">
            <a:off x="2828880" y="512280"/>
            <a:ext cx="206280" cy="2121120"/>
          </a:xfrm>
          <a:prstGeom prst="upArrow">
            <a:avLst>
              <a:gd name="adj1" fmla="val 50000"/>
              <a:gd name="adj2" fmla="val 25706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9677600">
            <a:off x="2514600" y="1123920"/>
            <a:ext cx="135000" cy="1575000"/>
          </a:xfrm>
          <a:prstGeom prst="upArrow">
            <a:avLst>
              <a:gd name="adj1" fmla="val 50000"/>
              <a:gd name="adj2" fmla="val 291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2838000">
            <a:off x="4980960" y="2261160"/>
            <a:ext cx="133560" cy="890640"/>
          </a:xfrm>
          <a:prstGeom prst="upArrow">
            <a:avLst>
              <a:gd name="adj1" fmla="val 50000"/>
              <a:gd name="adj2" fmla="val 16671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8668400">
            <a:off x="2423160" y="1935720"/>
            <a:ext cx="133200" cy="963720"/>
          </a:xfrm>
          <a:prstGeom prst="upArrow">
            <a:avLst>
              <a:gd name="adj1" fmla="val 50000"/>
              <a:gd name="adj2" fmla="val 18087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5400">
            <a:off x="4987440" y="2858760"/>
            <a:ext cx="155520" cy="838440"/>
          </a:xfrm>
          <a:prstGeom prst="upArrow">
            <a:avLst>
              <a:gd name="adj1" fmla="val 50000"/>
              <a:gd name="adj2" fmla="val 13478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6164000">
            <a:off x="2231640" y="2647080"/>
            <a:ext cx="150840" cy="373320"/>
          </a:xfrm>
          <a:prstGeom prst="upArrow">
            <a:avLst>
              <a:gd name="adj1" fmla="val 50000"/>
              <a:gd name="adj2" fmla="val 6187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7621800">
            <a:off x="4877280" y="3427920"/>
            <a:ext cx="144360" cy="828360"/>
          </a:xfrm>
          <a:prstGeom prst="upArrow">
            <a:avLst>
              <a:gd name="adj1" fmla="val 50000"/>
              <a:gd name="adj2" fmla="val 1434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5304800">
            <a:off x="2128680" y="2976480"/>
            <a:ext cx="154080" cy="601560"/>
          </a:xfrm>
          <a:prstGeom prst="upArrow">
            <a:avLst>
              <a:gd name="adj1" fmla="val 50000"/>
              <a:gd name="adj2" fmla="val 9760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9318600">
            <a:off x="4799880" y="3886200"/>
            <a:ext cx="120600" cy="890640"/>
          </a:xfrm>
          <a:prstGeom prst="upArrow">
            <a:avLst>
              <a:gd name="adj1" fmla="val 50000"/>
              <a:gd name="adj2" fmla="val 18462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2926400">
            <a:off x="2225520" y="3274920"/>
            <a:ext cx="131760" cy="890640"/>
          </a:xfrm>
          <a:prstGeom prst="upArrow">
            <a:avLst>
              <a:gd name="adj1" fmla="val 50000"/>
              <a:gd name="adj2" fmla="val 16898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2600600">
            <a:off x="2160360" y="3933360"/>
            <a:ext cx="142920" cy="922320"/>
          </a:xfrm>
          <a:prstGeom prst="upArrow">
            <a:avLst>
              <a:gd name="adj1" fmla="val 50000"/>
              <a:gd name="adj2" fmla="val 16133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9186600">
            <a:off x="4749840" y="4393800"/>
            <a:ext cx="138240" cy="1371600"/>
          </a:xfrm>
          <a:prstGeom prst="upArrow">
            <a:avLst>
              <a:gd name="adj1" fmla="val 50000"/>
              <a:gd name="adj2" fmla="val 24804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rot="12039600">
            <a:off x="2361240" y="4428720"/>
            <a:ext cx="163440" cy="2271600"/>
          </a:xfrm>
          <a:prstGeom prst="upArrow">
            <a:avLst>
              <a:gd name="adj1" fmla="val 50000"/>
              <a:gd name="adj2" fmla="val 3474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9327600">
            <a:off x="4571280" y="4343040"/>
            <a:ext cx="173160" cy="2019240"/>
          </a:xfrm>
          <a:prstGeom prst="upArrow">
            <a:avLst>
              <a:gd name="adj1" fmla="val 50000"/>
              <a:gd name="adj2" fmla="val 29152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rot="12416400">
            <a:off x="2208960" y="4419360"/>
            <a:ext cx="166680" cy="1390680"/>
          </a:xfrm>
          <a:prstGeom prst="upArrow">
            <a:avLst>
              <a:gd name="adj1" fmla="val 50000"/>
              <a:gd name="adj2" fmla="val 2085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rot="10845000">
            <a:off x="3276360" y="4572000"/>
            <a:ext cx="152280" cy="1473120"/>
          </a:xfrm>
          <a:prstGeom prst="upArrow">
            <a:avLst>
              <a:gd name="adj1" fmla="val 50000"/>
              <a:gd name="adj2" fmla="val 24184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22880" y="3801960"/>
            <a:ext cx="1863720" cy="557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Zones à risque cyclonique et économie </a:t>
            </a:r>
            <a:r>
              <a:rPr b="0" lang="en-US" sz="1100" spc="-1" strike="noStrike">
                <a:solidFill>
                  <a:srgbClr val="800000"/>
                </a:solidFill>
                <a:latin typeface="Times New Roman"/>
              </a:rPr>
              <a:t>(Géo 5</a:t>
            </a:r>
            <a:r>
              <a:rPr b="0" lang="en-US" sz="1100" spc="-1" strike="noStrike" baseline="30000">
                <a:solidFill>
                  <a:srgbClr val="800000"/>
                </a:solidFill>
                <a:latin typeface="Times New Roman"/>
              </a:rPr>
              <a:t>ème</a:t>
            </a:r>
            <a:r>
              <a:rPr b="0" lang="en-US" sz="1100" spc="-1" strike="noStrike">
                <a:solidFill>
                  <a:srgbClr val="800000"/>
                </a:solidFill>
                <a:latin typeface="Times New Roman"/>
              </a:rPr>
              <a:t>-3</a:t>
            </a:r>
            <a:r>
              <a:rPr b="0" lang="en-US" sz="1100" spc="-1" strike="noStrike" baseline="30000">
                <a:solidFill>
                  <a:srgbClr val="800000"/>
                </a:solidFill>
                <a:latin typeface="Times New Roman"/>
              </a:rPr>
              <a:t>ème</a:t>
            </a:r>
            <a:r>
              <a:rPr b="0" lang="en-US" sz="1100" spc="-1" strike="noStrike">
                <a:solidFill>
                  <a:srgbClr val="800000"/>
                </a:solidFill>
                <a:latin typeface="Times New Roman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22800">
            <a:off x="3516480" y="671400"/>
            <a:ext cx="125280" cy="1900440"/>
          </a:xfrm>
          <a:prstGeom prst="upArrow">
            <a:avLst>
              <a:gd name="adj1" fmla="val 50000"/>
              <a:gd name="adj2" fmla="val 3792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4200" y="3801960"/>
            <a:ext cx="1741680" cy="557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Vents locaux réguliers sous différents  climats </a:t>
            </a:r>
            <a:r>
              <a:rPr b="0" lang="en-US" sz="1100" spc="-1" strike="noStrike">
                <a:solidFill>
                  <a:srgbClr val="800000"/>
                </a:solidFill>
                <a:latin typeface="Times New Roman"/>
              </a:rPr>
              <a:t>(Géo 6</a:t>
            </a:r>
            <a:r>
              <a:rPr b="0" lang="en-US" sz="1100" spc="-1" strike="noStrike" baseline="30000">
                <a:solidFill>
                  <a:srgbClr val="800000"/>
                </a:solidFill>
                <a:latin typeface="Times New Roman"/>
              </a:rPr>
              <a:t>ème</a:t>
            </a:r>
            <a:r>
              <a:rPr b="0" lang="en-US" sz="1100" spc="-1" strike="noStrike">
                <a:solidFill>
                  <a:srgbClr val="800000"/>
                </a:solidFill>
                <a:latin typeface="Times New Roman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440" y="5216400"/>
            <a:ext cx="1863720" cy="781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Utilisation du vent dans les pratiques. Précaution et limites. </a:t>
            </a:r>
            <a:r>
              <a:rPr b="0" lang="en-US" sz="1100" spc="-1" strike="noStrike">
                <a:solidFill>
                  <a:srgbClr val="800000"/>
                </a:solidFill>
                <a:latin typeface="Times New Roman"/>
              </a:rPr>
              <a:t>(EPS tous niveau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765680" y="152280"/>
            <a:ext cx="2065320" cy="559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épartition des êtres vivants, migration, dissémination des graines (SVT 6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entrée possible : météorologie et vie quotidien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00400" y="3352680"/>
            <a:ext cx="1600200" cy="57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étéorologie et vie quotidie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1371600"/>
            <a:ext cx="1143000" cy="343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Agri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43400" y="1943280"/>
            <a:ext cx="153360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Aviation civile et aviation légè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85800" y="1828800"/>
            <a:ext cx="1143000" cy="571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Travaux publ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72000" y="2978280"/>
            <a:ext cx="1143000" cy="342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Espa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357200" y="2978280"/>
            <a:ext cx="1143000" cy="342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Touris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72000" y="3886200"/>
            <a:ext cx="1143000" cy="571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Energie et habit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43400" y="5149800"/>
            <a:ext cx="1143000" cy="679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Loisirs et pratique de 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357200" y="3886200"/>
            <a:ext cx="11430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Transports routiers et ferrovi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85800" y="5249880"/>
            <a:ext cx="11430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écurité civ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362320" y="6324480"/>
            <a:ext cx="1143000" cy="343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ant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19720" y="6248520"/>
            <a:ext cx="1143000" cy="342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Mar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6532200">
            <a:off x="2354400" y="5189400"/>
            <a:ext cx="2087280" cy="90720"/>
          </a:xfrm>
          <a:prstGeom prst="rightArrow">
            <a:avLst>
              <a:gd name="adj1" fmla="val 50000"/>
              <a:gd name="adj2" fmla="val 57519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4332000">
            <a:off x="3352320" y="5105160"/>
            <a:ext cx="2133720" cy="152280"/>
          </a:xfrm>
          <a:prstGeom prst="rightArrow">
            <a:avLst>
              <a:gd name="adj1" fmla="val 50000"/>
              <a:gd name="adj2" fmla="val 35029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7045800">
            <a:off x="2410920" y="4570200"/>
            <a:ext cx="1485720" cy="114480"/>
          </a:xfrm>
          <a:prstGeom prst="rightArrow">
            <a:avLst>
              <a:gd name="adj1" fmla="val 50000"/>
              <a:gd name="adj2" fmla="val 32445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3588000">
            <a:off x="3928680" y="4621320"/>
            <a:ext cx="1600200" cy="114120"/>
          </a:xfrm>
          <a:prstGeom prst="rightArrow">
            <a:avLst>
              <a:gd name="adj1" fmla="val 50000"/>
              <a:gd name="adj2" fmla="val 35055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585800">
            <a:off x="4551120" y="4132080"/>
            <a:ext cx="914400" cy="114120"/>
          </a:xfrm>
          <a:prstGeom prst="rightArrow">
            <a:avLst>
              <a:gd name="adj1" fmla="val 50000"/>
              <a:gd name="adj2" fmla="val 20031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8674200">
            <a:off x="2509560" y="4140000"/>
            <a:ext cx="799920" cy="114120"/>
          </a:xfrm>
          <a:prstGeom prst="rightArrow">
            <a:avLst>
              <a:gd name="adj1" fmla="val 50000"/>
              <a:gd name="adj2" fmla="val 1752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20896200">
            <a:off x="4557600" y="3077640"/>
            <a:ext cx="800280" cy="11448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1238000">
            <a:off x="2614680" y="3078000"/>
            <a:ext cx="799920" cy="114480"/>
          </a:xfrm>
          <a:prstGeom prst="rightArrow">
            <a:avLst>
              <a:gd name="adj1" fmla="val 50000"/>
              <a:gd name="adj2" fmla="val 17468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8483600">
            <a:off x="4058280" y="2662560"/>
            <a:ext cx="1359000" cy="112680"/>
          </a:xfrm>
          <a:prstGeom prst="rightArrow">
            <a:avLst>
              <a:gd name="adj1" fmla="val 50000"/>
              <a:gd name="adj2" fmla="val 30151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4038200">
            <a:off x="2554560" y="2565360"/>
            <a:ext cx="1382760" cy="120600"/>
          </a:xfrm>
          <a:prstGeom prst="rightArrow">
            <a:avLst>
              <a:gd name="adj1" fmla="val 50000"/>
              <a:gd name="adj2" fmla="val 28664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10800">
            <a:off x="3204000" y="2434320"/>
            <a:ext cx="1516320" cy="152280"/>
          </a:xfrm>
          <a:prstGeom prst="rightArrow">
            <a:avLst>
              <a:gd name="adj1" fmla="val 50000"/>
              <a:gd name="adj2" fmla="val 24893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948360" y="4724280"/>
            <a:ext cx="1841760" cy="12542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77840" y="1557360"/>
            <a:ext cx="12891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activ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é : météo et vie quotidie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é : goutte de plu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1396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e copie d’élève de cinquiè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747880" y="1268280"/>
            <a:ext cx="36943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 copie d’élève de cinquiè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484360" y="907920"/>
            <a:ext cx="3853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e copie d’élève de cinquiè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556000" y="1052640"/>
            <a:ext cx="36511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 type d’évaluation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4000" y="2708280"/>
            <a:ext cx="854064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« Les thèmes de convergence se prêtent particulièrement bien à une évaluation, soit dans la discipline, soit dans le cadre d’une pluridisciplinarité concerté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a800"/>
                </a:solidFill>
                <a:latin typeface="Arial"/>
              </a:rPr>
              <a:t>B.O. N°6 du 19 avril 2007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èmes de convergence: météo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 démarche d’investig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der l’élève à s’approprier le problème…….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 recherche de la participation de l’élève, le rendre acteur de ses apprentissages…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598920" cy="4321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1680" y="1676520"/>
            <a:ext cx="41940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 CHAMPS d’INVESTIGA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003640" y="1881360"/>
            <a:ext cx="3168720" cy="1723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98560" y="4149720"/>
            <a:ext cx="2808360" cy="2135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003640" y="3963960"/>
            <a:ext cx="3313440" cy="2135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56000" y="3573360"/>
            <a:ext cx="2447640" cy="3952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17800" y="3573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écip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3573360"/>
            <a:ext cx="2448000" cy="3952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5080" y="35733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tempé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5877000"/>
            <a:ext cx="1620720" cy="3952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97800" y="58770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56000" y="6237360"/>
            <a:ext cx="3309840" cy="395280"/>
          </a:xfrm>
          <a:prstGeom prst="rect">
            <a:avLst/>
          </a:prstGeom>
          <a:solidFill>
            <a:srgbClr val="cc99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16360" y="6237360"/>
            <a:ext cx="28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ion atmosphé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332000" y="1628640"/>
            <a:ext cx="173664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5013360"/>
            <a:ext cx="851076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800"/>
                </a:solidFill>
                <a:latin typeface="Arial"/>
              </a:rPr>
              <a:t>B.O. N°6 du 19 avril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691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ur diverses raisons, le temps qu’il fera a toujours été l’objet des préoccupations humaines. Cependant le besoin de connaître les évolutions du temps à moyen ou à long terme devient de plus en plus fort dans un monde en pleine évolution commerciale, technologique et environnemental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10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06668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u collège la météorologie permet d’approfondir les activités initiées au cycle 3 en faisan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ffectuer des mesures,  concernant la pluviométrie, l’hygrométrie, la température, la vitesse et la direction des vents, la pression, l’enneigement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server l’état du ciel ou de l’imagerie satelli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loiter l’ensemble de ces données sous de multiples for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nd les disciplines convergent sur un seul thè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!!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89647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24400" y="3213000"/>
            <a:ext cx="1768320" cy="1079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étéorologie climatologie et les discip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67400" y="1917720"/>
            <a:ext cx="3289320" cy="1440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éograp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Les reliefs en montag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- l’enneigement selon l’altitude, la latitude, les régions, les pays, le monde, les sai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L’enneigement et l’activité économ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Les clim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5013360"/>
            <a:ext cx="2694240" cy="165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- La qualité de l’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Les effets de l’altitude sur l’organisme, la gestion de l’effor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nfluence des conditions climatiques  (la végétation, la fau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volution des conditions atmosphériques au cours du temp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6000" y="3860640"/>
            <a:ext cx="3060720" cy="112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onception du matériel pour favoriser la prat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onception du matériel pour assurer la sécurité de la prat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92720" y="5229360"/>
            <a:ext cx="2952720" cy="1439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théma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tablir des moyen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Utilisation d’un tableur graph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alcul de pource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présentations graph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ia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onversion d’unités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2781360"/>
            <a:ext cx="2592360" cy="21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ciences phys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La neige, la grêle, le givre….., leur formation, leur constitution, leurs transformations, leur évolut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L’influence de la température et du vent sur la constitution et l’évolution du manteau neige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La pression atmosphérique en montag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7045800">
            <a:off x="2747880" y="4821120"/>
            <a:ext cx="1486080" cy="142560"/>
          </a:xfrm>
          <a:prstGeom prst="rightArrow">
            <a:avLst>
              <a:gd name="adj1" fmla="val 50000"/>
              <a:gd name="adj2" fmla="val 2606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3588000">
            <a:off x="4116600" y="4892400"/>
            <a:ext cx="1600200" cy="114480"/>
          </a:xfrm>
          <a:prstGeom prst="rightArrow">
            <a:avLst>
              <a:gd name="adj1" fmla="val 50000"/>
              <a:gd name="adj2" fmla="val 34945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585800">
            <a:off x="4932000" y="4292280"/>
            <a:ext cx="914400" cy="114120"/>
          </a:xfrm>
          <a:prstGeom prst="rightArrow">
            <a:avLst>
              <a:gd name="adj1" fmla="val 50000"/>
              <a:gd name="adj2" fmla="val 20031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8674200">
            <a:off x="2801520" y="4014360"/>
            <a:ext cx="800280" cy="223920"/>
          </a:xfrm>
          <a:prstGeom prst="rightArrow">
            <a:avLst>
              <a:gd name="adj1" fmla="val 50000"/>
              <a:gd name="adj2" fmla="val 8934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896200">
            <a:off x="4881600" y="3052440"/>
            <a:ext cx="799920" cy="114120"/>
          </a:xfrm>
          <a:prstGeom prst="rightArrow">
            <a:avLst>
              <a:gd name="adj1" fmla="val 50000"/>
              <a:gd name="adj2" fmla="val 1752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8483600">
            <a:off x="4596480" y="2611800"/>
            <a:ext cx="1359000" cy="112680"/>
          </a:xfrm>
          <a:prstGeom prst="rightArrow">
            <a:avLst>
              <a:gd name="adj1" fmla="val 50000"/>
              <a:gd name="adj2" fmla="val 30151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6210800">
            <a:off x="3519360" y="2400120"/>
            <a:ext cx="1495440" cy="187560"/>
          </a:xfrm>
          <a:prstGeom prst="rightArrow">
            <a:avLst>
              <a:gd name="adj1" fmla="val 50000"/>
              <a:gd name="adj2" fmla="val 19932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3512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au synop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174600" y="589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9280" y="836640"/>
          <a:ext cx="8541000" cy="5748480"/>
        </p:xfrm>
        <a:graphic>
          <a:graphicData uri="http://schemas.openxmlformats.org/drawingml/2006/table">
            <a:tbl>
              <a:tblPr/>
              <a:tblGrid>
                <a:gridCol w="1344600"/>
                <a:gridCol w="1785960"/>
                <a:gridCol w="1812960"/>
                <a:gridCol w="1785960"/>
                <a:gridCol w="181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a800"/>
                          </a:solidFill>
                          <a:latin typeface="Arial"/>
                          <a:ea typeface="Times New Roman"/>
                        </a:rPr>
                        <a:t>SIXIEM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a800"/>
                          </a:solidFill>
                          <a:latin typeface="Arial"/>
                          <a:ea typeface="Times New Roman"/>
                        </a:rPr>
                        <a:t>CINQUIEM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a800"/>
                          </a:solidFill>
                          <a:latin typeface="Arial"/>
                          <a:ea typeface="Times New Roman"/>
                        </a:rPr>
                        <a:t>QUATRIEM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a800"/>
                          </a:solidFill>
                          <a:latin typeface="Arial"/>
                          <a:ea typeface="Times New Roman"/>
                        </a:rPr>
                        <a:t>TROISIEM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a800"/>
                          </a:solidFill>
                          <a:latin typeface="Arial"/>
                          <a:ea typeface="Times New Roman"/>
                        </a:rPr>
                        <a:t>Mathémat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re ou établir des tableaux, des graphiques (température…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ilisation des nombres relatifs. Comparaison de nombres relatifs, repérage dans un pl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Diagramm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culs de pourcentag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ilisation d’un tableur-grapheu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culs de moyennes (température, …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ilisation d’un tableur-grapheur (température, précipitations …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ersion d’unité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araison de séries statistiqu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résentations graphiques de fonctions (étude d’évolution de donnée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ressions algébrique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ersion d’unité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a800"/>
                          </a:solidFill>
                          <a:latin typeface="Arial"/>
                          <a:ea typeface="Times New Roman"/>
                        </a:rPr>
                        <a:t>Sciences phys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a800"/>
                          </a:solidFill>
                          <a:latin typeface="Arial"/>
                          <a:ea typeface="Times New Roman"/>
                        </a:rPr>
                        <a:t>et chim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ométri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écipitations, pluviométri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grométri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ycle de l’eau et état physique de l’eau dans les nuag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sion atmosphériq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ison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tricité : capteur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osition de l’atmosphè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sion atmosphériqu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uies acid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tricité : capteurs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mats, saison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et de serr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zon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tions atmosphériques et sécurité routièr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tions atmosphériques et corrosion de certains métaux usuel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tricité : capteur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uies acid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et de serr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zon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a800"/>
                          </a:solidFill>
                          <a:latin typeface="Arial"/>
                          <a:ea typeface="Times New Roman"/>
                        </a:rPr>
                        <a:t>Sciences de la vi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a800"/>
                          </a:solidFill>
                          <a:latin typeface="Arial"/>
                          <a:ea typeface="Times New Roman"/>
                        </a:rPr>
                        <a:t>et de la Ter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actéristiques de l’environnement 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érature, pluviométrie, éclairement, saison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onditions climatiques influent sur les aspects qualitatifs et quantitatifs des élevages et cultur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é de l’air et de l’eau et respiration (disponibilité en gaz ; pollution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on de l’eau sur le modelé du paysag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luence des conditions climatiques sur le taux de reproduction de certaines espèc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olution de l’atmosphère au cours du temps. Qualité de l’ai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et de serr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stion des ressources en eau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olution du climat au cours du temp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a800"/>
                          </a:solidFill>
                          <a:latin typeface="Arial"/>
                          <a:ea typeface="Times New Roman"/>
                        </a:rPr>
                        <a:t>Éducation physiqu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a800"/>
                          </a:solidFill>
                          <a:latin typeface="Arial"/>
                          <a:ea typeface="Times New Roman"/>
                        </a:rPr>
                        <a:t>et spor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Activités physiques sportives nécessitant une adaptation aux conditions météorologiques 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ntretien, APPN et APSA (voile, ski, canoë,C.O. …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onditions météorologiques et leur influence sur la pratique physique et les conditions de cette pratiqu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onnaissances des éléments météorologiques et incidences sur les prises de décisions sur la pratique en rapport à l’état du milieu, du temps, des variations de température.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 terme de pré requis sécuritaires et d’adaptation des conduites motric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a800"/>
                          </a:solidFill>
                          <a:latin typeface="Arial"/>
                          <a:ea typeface="Times New Roman"/>
                        </a:rPr>
                        <a:t>Géograph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nds domaines climatiques ; répartition des zones thermiques et pluviométriqu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ison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fférents climats en Afrique, en Asie et en Amérique ; leurs rapports avec le peuplement, l’organisation de l’espace et les activité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fférents climats en Europe ; leurs rapports avec le peuplement, l’organisation de l’espace et les activité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se en compte des contraintes et risques dus au climat et valorisation d’éléments climatiques par les grandes puissances étudiées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tre champs d’investi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é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viomé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tesse et direction des 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457200" y="304920"/>
            <a:ext cx="8496360" cy="6119280"/>
            <a:chOff x="457200" y="304920"/>
            <a:chExt cx="8496360" cy="6119280"/>
          </a:xfrm>
        </p:grpSpPr>
        <p:sp>
          <p:nvSpPr>
            <p:cNvPr id="96" name=""/>
            <p:cNvSpPr/>
            <p:nvPr/>
          </p:nvSpPr>
          <p:spPr>
            <a:xfrm>
              <a:off x="3324600" y="304920"/>
              <a:ext cx="2865600" cy="930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’est-ce que la pression atmosphérique 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vestigations possibles e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8760" y="1585080"/>
              <a:ext cx="1950480" cy="581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iences physiques et chimiqu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71840" y="1585080"/>
              <a:ext cx="1950480" cy="581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iences de la vie et de la Terr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42200" y="1604520"/>
              <a:ext cx="1950120" cy="562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thémat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03920" y="1604520"/>
              <a:ext cx="2249640" cy="562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e quotidi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4320" y="2768040"/>
              <a:ext cx="1334520" cy="698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ent la mettre en évidenc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 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84040" y="2778120"/>
              <a:ext cx="1334520" cy="698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ent la mesurer 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29320" y="2758680"/>
              <a:ext cx="1334520" cy="814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ssion atmosphérique et poll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69040" y="2729520"/>
              <a:ext cx="1334520" cy="814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levés, valeurs moyennes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s isobar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88760" y="2748960"/>
              <a:ext cx="1642320" cy="824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ticyclone et dépressio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igine du v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« Pleuvra, pleuvra pa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 ? 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96560" y="3912840"/>
              <a:ext cx="1437120" cy="116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ducation physique et sportive 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atique des activité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étéo et compétition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4320" y="4029120"/>
              <a:ext cx="1950120" cy="1047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piration de l’air dans une bouteille en PE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llon de baudruche dans la cloche à vid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71840" y="4029120"/>
              <a:ext cx="1673280" cy="1047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 baromètre à colon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 mercu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 baromètre anéroïd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 barograph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7200" y="5396760"/>
              <a:ext cx="2155680" cy="979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e ballon sond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bullition de l’eau sous pression réduite, applications (autocuiseur, circuit de refroidissement pressurisé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)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77040" y="5425560"/>
              <a:ext cx="1950120" cy="998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érification du principe de fonctionnement (ex avec un baromètre anéroïde dans la cloche à vide et dans un sac transparent comprimé)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775880" y="1235880"/>
              <a:ext cx="225828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034520" y="1235880"/>
              <a:ext cx="20520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58640" y="1235880"/>
              <a:ext cx="30780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77200" y="1235880"/>
              <a:ext cx="215568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62880" y="2166840"/>
              <a:ext cx="0" cy="46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81440" y="2166840"/>
              <a:ext cx="513000" cy="58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62880" y="3485880"/>
              <a:ext cx="0" cy="46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25080" y="3495600"/>
              <a:ext cx="410400" cy="46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65480" y="507636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12880" y="507636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7520" y="3563640"/>
              <a:ext cx="20520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29320" y="2166840"/>
              <a:ext cx="513000" cy="58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79800" y="2166840"/>
              <a:ext cx="410400" cy="46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09920" y="2283480"/>
              <a:ext cx="0" cy="46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09920" y="3679920"/>
              <a:ext cx="2556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65000" y="356364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16760" y="3912840"/>
              <a:ext cx="1539720" cy="116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luence sur la santé 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ccumulation des polluants (ozone, oxydes d’azote) ; effets biologiques et effet sur la santé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40880" y="5425560"/>
              <a:ext cx="1539720" cy="930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alyse de cartes de pollutions atmosphériqu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dentification des pollua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ure de pollution avec des plantes sensible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43480" y="5076360"/>
              <a:ext cx="205200" cy="34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59440" y="3912840"/>
              <a:ext cx="1334520" cy="116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truction de tableaux et de graphique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érage dans le plan et construction de « lignes  isobares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 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370200" y="5076360"/>
              <a:ext cx="205200" cy="34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8:37:24Z</dcterms:created>
  <dc:creator>Sylvie</dc:creator>
  <dc:description/>
  <dc:language>en-US</dc:language>
  <cp:lastModifiedBy>dmeur</cp:lastModifiedBy>
  <dcterms:modified xsi:type="dcterms:W3CDTF">2007-06-18T04:37:31Z</dcterms:modified>
  <cp:revision>23</cp:revision>
  <dc:subject/>
  <dc:title>METEOROLOGIE  CLIMATOLOGIE</dc:title>
</cp:coreProperties>
</file>