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9E4A3-24E4-4CF1-B700-4D4C358B5768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Idée : elle  devrait émerger où qu’il faudra la faire émerger : « sans le savoir, on fait tous des thèmes de convergence, surtout à minima 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Question : Quels intérêts d’inscrire ce qu’on fait déjà dans le cadre des thèmes de convergence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La salle devrait donner des réponses, il faudra les pointer du doigt au fur et à mesure du déroulement du diapora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Si il n’y a pas de réponses il faudra tout explici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5A980-BD15-4392-A8ED-C8F27D523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3A681-D77F-428D-8514-FC8DD22A9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9D501-BDC3-4886-9B6C-1D07FF205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E66F1-B882-409E-8F5F-61D422089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C6A70-BC52-48C3-A7B7-C9EE7D68B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17E4A-AFBF-4618-A8B3-35DD2B72C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CC325-1FFD-445B-A691-33599133A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1258A-1A35-4528-90FC-FC85FF837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2E339-6F32-466E-A6E6-94F771E8F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2C714-E8F0-4E8C-9A59-40AABCF25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D1BB8-A6B2-402C-B133-23B2E10BB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9BF05-BE9C-42AB-8C0F-6EE952D91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E7C82-CDB7-4887-8C54-85BBAE9E4E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unwater.org/wwd07/downloads/documents/wwd07brochure_fr.pdf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a journée mondiale de l’eau le 22mars 2007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Espace réservé du contenu 3" descr="Partage de l'eau en Inde.jpg"/>
          <p:cNvPicPr/>
          <p:nvPr/>
        </p:nvPicPr>
        <p:blipFill>
          <a:blip r:embed="rId1"/>
          <a:stretch/>
        </p:blipFill>
        <p:spPr>
          <a:xfrm>
            <a:off x="4427640" y="620640"/>
            <a:ext cx="4174920" cy="36403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24000" y="1197000"/>
            <a:ext cx="3960720" cy="213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haque goutte compt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aire face à la pénurie d’eau est le thème de la journée mondiale de l’eau 2007 des Nations Uni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f81bd"/>
                </a:solidFill>
                <a:latin typeface="Arial"/>
                <a:ea typeface="Arial"/>
              </a:rPr>
              <a:t>A quoi penses-tu, quand tu regardes la photo ci-contre</a:t>
            </a:r>
            <a:r>
              <a:rPr b="0" lang="en-US" sz="1800" spc="-1" strike="noStrike">
                <a:solidFill>
                  <a:srgbClr val="4f81bd"/>
                </a:solidFill>
                <a:latin typeface="Arial"/>
                <a:ea typeface="Arial"/>
              </a:rPr>
              <a:t> </a:t>
            </a:r>
            <a:r>
              <a:rPr b="1" lang="en-US" sz="1800" spc="-1" strike="noStrike">
                <a:solidFill>
                  <a:srgbClr val="4f81bd"/>
                </a:solidFill>
                <a:latin typeface="Arial"/>
                <a:ea typeface="Arial"/>
              </a:rPr>
              <a:t>?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/>
          <p:nvPr/>
        </p:nvSpPr>
        <p:spPr>
          <a:xfrm>
            <a:off x="539640" y="4221000"/>
            <a:ext cx="8035920" cy="231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es trois quarts de la planète sont couverts d’eau mais seulement une petite partie de ces volumes se présentent sous forme d’eau douce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a demande de la population mondiale en eau ne cesse de croître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ême des zones urbaines et les pays disposant de ressources abondantes d’eaux douces peuvent être menacés de pénuries d’eau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f81bd"/>
                </a:solidFill>
                <a:latin typeface="Arial"/>
                <a:ea typeface="Arial"/>
              </a:rPr>
              <a:t>Quels gestes peux-tu faire tous les jours pour économiser l’eau 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ite : 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2"/>
              </a:rPr>
              <a:t>http://www.unwater.org/wwd07/downloads/documents/wwd07brochure_fr.pdf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324000" y="404280"/>
            <a:ext cx="8496000" cy="20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Une problématique initiée par une seule discipline à partir du document précéd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iscussion avec les élèves pendant 15 minut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our la semaine suivante, les élèves avaient à illustrer sur feuille A4 le thème de la journée mondiale de l’eau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Espace réservé du contenu 3" descr="PICT4241.JPG"/>
          <p:cNvPicPr/>
          <p:nvPr/>
        </p:nvPicPr>
        <p:blipFill>
          <a:blip r:embed="rId1"/>
          <a:stretch/>
        </p:blipFill>
        <p:spPr>
          <a:xfrm>
            <a:off x="1835280" y="2133720"/>
            <a:ext cx="60354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Espace réservé du contenu 3" descr="PICT4242.JPG"/>
          <p:cNvPicPr/>
          <p:nvPr/>
        </p:nvPicPr>
        <p:blipFill>
          <a:blip r:embed="rId1"/>
          <a:stretch/>
        </p:blipFill>
        <p:spPr>
          <a:xfrm>
            <a:off x="3780000" y="333360"/>
            <a:ext cx="5111640" cy="3834000"/>
          </a:xfrm>
          <a:prstGeom prst="rect">
            <a:avLst/>
          </a:prstGeom>
          <a:ln w="0">
            <a:noFill/>
          </a:ln>
        </p:spPr>
      </p:pic>
      <p:sp>
        <p:nvSpPr>
          <p:cNvPr id="55" name="Titre 1"/>
          <p:cNvSpPr/>
          <p:nvPr/>
        </p:nvSpPr>
        <p:spPr>
          <a:xfrm>
            <a:off x="250920" y="189000"/>
            <a:ext cx="347796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Pour l'an prochain, avec le soutien du chef d'établissement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,  </a:t>
            </a:r>
            <a:br>
              <a:rPr sz="1800"/>
            </a:br>
            <a:br>
              <a:rPr sz="1800"/>
            </a:b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une heure sera  banalisée pour faire une évaluation sciences physiques-SVT sur les thèmes de convergence en 4</a:t>
            </a:r>
            <a:r>
              <a:rPr b="1" lang="fr-FR" sz="1800" spc="-1" strike="noStrike" baseline="30000">
                <a:solidFill>
                  <a:srgbClr val="000000"/>
                </a:solidFill>
                <a:latin typeface="Calibri"/>
              </a:rPr>
              <a:t>ème</a:t>
            </a: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 .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Espace réservé du contenu 3" descr="PICT4243.JPG"/>
          <p:cNvPicPr/>
          <p:nvPr/>
        </p:nvPicPr>
        <p:blipFill>
          <a:blip r:embed="rId2"/>
          <a:stretch/>
        </p:blipFill>
        <p:spPr>
          <a:xfrm>
            <a:off x="179280" y="3068640"/>
            <a:ext cx="4788000" cy="3591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148360" y="4797360"/>
            <a:ext cx="37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certation début juillet pour y réfléchi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31T20:33:16Z</dcterms:created>
  <dc:creator>Elisabeth</dc:creator>
  <dc:description/>
  <dc:language>en-US</dc:language>
  <cp:lastModifiedBy>dmeur</cp:lastModifiedBy>
  <dcterms:modified xsi:type="dcterms:W3CDTF">2007-06-16T22:35:42Z</dcterms:modified>
  <cp:revision>5</cp:revision>
  <dc:subject/>
  <dc:title>Diapositive 1</dc:title>
</cp:coreProperties>
</file>