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CAB8-9018-4443-AD3F-DD6905F3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ECE2-5CE9-4C55-8DDE-DC78D88D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0F5A-7159-42C7-8F18-21D1FA07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204D-FFAB-48E7-9754-1859948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606-AF19-4E97-81D5-DB75602B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D10-D460-413C-BD8D-234B97B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389-FE47-4D6F-8D75-F7A9ACA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AC4-004A-45F7-9419-65563CE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0CB-3934-493D-8DF7-90B38C9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82FB-576B-48C4-8985-7E1C475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D598-CE71-4FB3-B920-968C076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02A9-9C51-4E94-ACBC-D98127A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6767-3605-4AB0-89E1-1991372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8D95-CABD-4E70-BAC0-8776534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331A-CD5D-4B1F-A2CC-26F2BC5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F099-338B-4798-8C63-31D747B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082-054D-41A1-9CAA-5EC2E0E0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4BF4-08F5-40D5-A3C7-5443FF0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3CD3-B258-44B9-87B2-A86CE78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59FB-44BB-4069-BA32-496A1CC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14AA-FB27-46B7-B0FB-70D7F96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DE07-614D-45AE-9EA7-B35F6FA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4D4C-C168-40B1-83B1-CFDDEFBB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D39D-DB5D-4F2F-B18D-CA6C156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FD80-5962-4781-B8A1-886F41AFBD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ECC-D563-4744-A6DF-981CF943BA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C1%20eau%20minima.ppt" TargetMode="External"/><Relationship Id="rId2" Type="http://schemas.openxmlformats.org/officeDocument/2006/relationships/hyperlink" Target="file:///TC2%20progression%20altern&#233;e%20math%20phys%20-meteo.ppt" TargetMode="External"/><Relationship Id="rId3" Type="http://schemas.openxmlformats.org/officeDocument/2006/relationships/hyperlink" Target="file:///TC2%20progression%20altern&#233;e%20math%20phys%20-meteo.ppt" TargetMode="External"/><Relationship Id="rId4" Type="http://schemas.openxmlformats.org/officeDocument/2006/relationships/hyperlink" Target="file:///TC2%20progression%20altern&#233;e%20math%20phys%20-meteo.ppt" TargetMode="External"/><Relationship Id="rId5" Type="http://schemas.openxmlformats.org/officeDocument/2006/relationships/hyperlink" Target="file:///TC3%20m&#233;t&#233;o%20projet%20sur%20l&apos;ann&#233;e.ppt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THEMES DE CONVERGENC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60627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CTI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boration d’une première représentation globale et cohérente du monde par l’étude de sujets essentiels pour les individus et la socié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der l’élève à faire du lien entre les disciplines, à donner du sens et une unité à ses apprentiss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48360" y="3284640"/>
            <a:ext cx="1184400" cy="230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81200" y="22050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O n°6 du 19 avril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1341360"/>
            <a:ext cx="2772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SIX THE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er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ronnement et développement du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éorologie et climat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 de pensée statis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écur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elques mises en œuv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Débuter seul  ! Un projet min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rogressions alternées math-</a:t>
            </a:r>
            <a:r>
              <a:rPr b="0" lang="fr-FR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phys</a:t>
            </a:r>
            <a:r>
              <a:rPr b="0" lang="fr-FR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 (statistiques)  problématiques communes (mété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Un travail sur l’anné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9:22:35Z</dcterms:created>
  <dc:creator>dmeur</dc:creator>
  <dc:description/>
  <dc:language>en-US</dc:language>
  <cp:lastModifiedBy>dmeur</cp:lastModifiedBy>
  <dcterms:modified xsi:type="dcterms:W3CDTF">2007-06-18T05:00:34Z</dcterms:modified>
  <cp:revision>8</cp:revision>
  <dc:subject/>
  <dc:title>THEMES DE CONVERGENCE</dc:title>
</cp:coreProperties>
</file>