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FDD6-A41E-4548-A306-4447BF0FEE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xploitation sur plusieurs années, les mesures sont toutes indépendantes mais n’ont pas toutes la même précision car les volumes sont différents. Certains risquent de soulever la question de la validité de la moyenne dans ces conditions. On ne rentrera pas dans ces considérations en 5</a:t>
            </a:r>
            <a:r>
              <a:rPr b="0" lang="en-US" sz="1200" spc="-1" strike="noStrike" baseline="30000">
                <a:solidFill>
                  <a:srgbClr val="000000"/>
                </a:solidFill>
                <a:latin typeface="Arial"/>
              </a:rPr>
              <a:t>è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a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le premier travail, il devait y avoir double correction, en physique et en français, l'idée a été abandonnée pour la partie franç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euxième travail s'inscrit dans une partie de cours sur les mesures de grandeurs phys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lèves travaillent sur ce thème avec le professeur d'anglais et le professeur de math. Une évaluation est prévue en fin d'an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fois que le thème météo est abordé dans un cours, ils dessinent un soleil ou un nuage dans la m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DBC38-D3D9-47C6-8709-430E6979E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AF505-4770-4E1A-BD17-738AA0B8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78B69-1C8B-4F05-A68B-51E74DD8C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3D144-6C20-4469-99DE-DBF16ED2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F9AC3-798A-4AD4-8DDE-2A176DD39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4F863-57E3-4682-82CE-5EFF85308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064F9-4F3E-4475-8917-A8CBE08C2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FDBBE-F090-4475-8803-39B31DAFC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D0394-FD70-4E9C-A534-F425FD529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D0BBD-A140-459A-8C69-78748DBB3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EAB1B-40E8-4EF0-AAA5-A8E17E1DF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ECC9-D18C-46A7-9235-5A2D8B26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8E2B-27C5-4A2E-AA84-6D9F79E1A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FCD4-CC1B-4789-9981-91FDAF970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1B45F-DE70-44ED-A1EE-72AD01EDE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4B063-4544-4A16-AE47-5F098CD58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5E2D7-5818-479D-8CDA-6BD3C6470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54F54-4184-496A-B942-86CB60FAB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1DE6E-3C3B-4EB0-8E6A-6C0606CE7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0E44-5B85-4432-858E-B783217F7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B043A-0B25-44A1-9BE3-B397DD52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2BE5-79D9-4735-B479-23663864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654C-4038-48BF-AE47-7DBD85B4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C953-78E2-4B9E-9310-981249875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9F69-66EF-48BC-B209-B29AB05614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D1CC-73AA-477E-9E89-D6D32E302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C%20prog%20altern&#233;e%20math.pdf" TargetMode="External"/><Relationship Id="rId2" Type="http://schemas.openxmlformats.org/officeDocument/2006/relationships/hyperlink" Target="file:///TC%20prog%20altern&#233;e%20physique.pdf"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333000"/>
            <a:ext cx="7772400" cy="1655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ccecff"/>
                </a:solidFill>
                <a:latin typeface="Arial"/>
              </a:rPr>
              <a:t> </a:t>
            </a:r>
            <a:r>
              <a:rPr b="0" lang="en-US" sz="3200" spc="-1" strike="noStrike">
                <a:solidFill>
                  <a:srgbClr val="ccecff"/>
                </a:solidFill>
                <a:latin typeface="Arial"/>
              </a:rPr>
              <a:t>Progression alternée en math-physique</a:t>
            </a:r>
            <a:r>
              <a:rPr b="0" lang="en-US" sz="2400" spc="-1" strike="noStrike">
                <a:solidFill>
                  <a:srgbClr val="ccecff"/>
                </a:solidFill>
                <a:latin typeface="Arial"/>
              </a:rPr>
              <a:t> </a:t>
            </a:r>
            <a:br>
              <a:rPr sz="2400"/>
            </a:br>
            <a:br>
              <a:rPr sz="2400"/>
            </a:br>
            <a:r>
              <a:rPr b="0" lang="en-US" sz="2000" spc="-1" strike="noStrike">
                <a:solidFill>
                  <a:srgbClr val="ccecff"/>
                </a:solidFill>
                <a:latin typeface="Arial"/>
              </a:rPr>
              <a:t>Thème « Importance du mode de pensée statistique dans le regard scientifique sur le monde »</a:t>
            </a:r>
            <a:endParaRPr b="0" lang="en-US" sz="2000" spc="-1" strike="noStrike">
              <a:solidFill>
                <a:srgbClr val="ccecff"/>
              </a:solidFill>
              <a:latin typeface="Arial"/>
            </a:endParaRPr>
          </a:p>
        </p:txBody>
      </p:sp>
      <p:sp>
        <p:nvSpPr>
          <p:cNvPr id="219" name="PlaceHolder 2"/>
          <p:cNvSpPr>
            <a:spLocks noGrp="1"/>
          </p:cNvSpPr>
          <p:nvPr>
            <p:ph type="subTitle"/>
          </p:nvPr>
        </p:nvSpPr>
        <p:spPr>
          <a:xfrm>
            <a:off x="971640" y="2491920"/>
            <a:ext cx="7488000" cy="1871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99ff99"/>
                </a:solidFill>
                <a:uFillTx/>
                <a:latin typeface="Arial"/>
                <a:hlinkClick r:id="rId1"/>
              </a:rPr>
              <a:t>Travail en mathématique</a:t>
            </a:r>
            <a:endParaRPr b="0" lang="en-US" sz="3200" spc="-1" strike="noStrike">
              <a:solidFill>
                <a:srgbClr val="ffffff"/>
              </a:solidFill>
              <a:latin typeface="Arial"/>
            </a:endParaRPr>
          </a:p>
          <a:p>
            <a:pPr>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99ff99"/>
                </a:solidFill>
                <a:uFillTx/>
                <a:latin typeface="Arial"/>
                <a:hlinkClick r:id="rId2"/>
              </a:rPr>
              <a:t>Travail en physique</a:t>
            </a:r>
            <a:endParaRPr b="0" lang="en-US" sz="3200" spc="-1" strike="noStrike">
              <a:solidFill>
                <a:srgbClr val="ffffff"/>
              </a:solidFill>
              <a:latin typeface="Arial"/>
            </a:endParaRPr>
          </a:p>
          <a:p>
            <a:pPr>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e exploitation sur plusieurs anné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549360"/>
            <a:ext cx="822960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hème « Météorologie et climatologie  »</a:t>
            </a:r>
            <a:br>
              <a:rPr sz="2400"/>
            </a:br>
            <a:r>
              <a:rPr b="1" lang="en-US" sz="2400" spc="-1" strike="noStrike">
                <a:solidFill>
                  <a:srgbClr val="ccecff"/>
                </a:solidFill>
                <a:latin typeface="Arial"/>
              </a:rPr>
              <a:t>d</a:t>
            </a:r>
            <a:r>
              <a:rPr b="0" lang="en-US" sz="2000" spc="-1" strike="noStrike">
                <a:solidFill>
                  <a:srgbClr val="ccecff"/>
                </a:solidFill>
                <a:latin typeface="Arial"/>
              </a:rPr>
              <a:t>isciplines concernées : Physique, math, français, anglais</a:t>
            </a:r>
            <a:endParaRPr b="0" lang="en-US" sz="2000" spc="-1" strike="noStrike">
              <a:solidFill>
                <a:srgbClr val="ccecff"/>
              </a:solidFill>
              <a:latin typeface="Arial"/>
            </a:endParaRPr>
          </a:p>
        </p:txBody>
      </p:sp>
      <p:sp>
        <p:nvSpPr>
          <p:cNvPr id="221" name="PlaceHolder 2"/>
          <p:cNvSpPr>
            <a:spLocks noGrp="1"/>
          </p:cNvSpPr>
          <p:nvPr>
            <p:ph/>
          </p:nvPr>
        </p:nvSpPr>
        <p:spPr>
          <a:xfrm>
            <a:off x="539640" y="2565360"/>
            <a:ext cx="8229600" cy="26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Travail demandé en physique en 2006-2007</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jet pour 2007-200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75920"/>
            <a:ext cx="82296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r l’académie d’Orléans Tours </a:t>
            </a:r>
            <a:endParaRPr b="0" lang="en-US" sz="3600" spc="-1" strike="noStrike">
              <a:solidFill>
                <a:srgbClr val="ccecff"/>
              </a:solidFill>
              <a:latin typeface="Arial"/>
            </a:endParaRPr>
          </a:p>
        </p:txBody>
      </p:sp>
      <p:sp>
        <p:nvSpPr>
          <p:cNvPr id="223" name="PlaceHolder 2"/>
          <p:cNvSpPr>
            <a:spLocks noGrp="1"/>
          </p:cNvSpPr>
          <p:nvPr>
            <p:ph/>
          </p:nvPr>
        </p:nvSpPr>
        <p:spPr>
          <a:xfrm>
            <a:off x="611280" y="1988640"/>
            <a:ext cx="8229600" cy="3240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exemples sur l’expérimentation 2004-2005) http://www.ac-orleans-tours.fr/physique/phyprof/ccentral/progress/index.ht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gressions alternées math-phys</a:t>
            </a:r>
            <a:br>
              <a:rPr sz="2800"/>
            </a:br>
            <a:r>
              <a:rPr b="0" lang="fr-FR" sz="2800" spc="-1" strike="noStrike">
                <a:solidFill>
                  <a:srgbClr val="ffffff"/>
                </a:solidFill>
                <a:latin typeface="Arial"/>
              </a:rPr>
              <a:t>http://www.ac-orleans-tours.fr/physique/phymathsvt/index.ht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6T19:29:19Z</dcterms:created>
  <dc:creator>dmeur</dc:creator>
  <dc:description/>
  <dc:language>en-US</dc:language>
  <cp:lastModifiedBy>dmeur</cp:lastModifiedBy>
  <dcterms:modified xsi:type="dcterms:W3CDTF">2007-06-18T04:55:40Z</dcterms:modified>
  <cp:revision>10</cp:revision>
  <dc:subject/>
  <dc:title>Diapositive 1</dc:title>
</cp:coreProperties>
</file>